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9EA-8C18-4511-B9DD-8E8F897A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740-1119-48FC-945A-36057BCB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7A448-FED0-4ED3-B755-3829138C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5A8C1-3B9E-4A3A-AA42-8D150A96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D89AE-8D98-4CAA-957D-0DC3EB0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92C11-6F28-42B4-8741-DAD9864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BCFAD-8034-47B5-868C-1E9CDD13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72381-04DC-462F-9D00-797145C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976E4-3F78-4A04-B45C-7ECCC3AC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E1F09-450A-470B-9951-ADB780E4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5AA8-C741-4292-865B-4FAF4B5C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45EFA-E6CF-4356-B34D-0AF9B739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A9D-D73D-456A-A8E7-8CBE8DB5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B2F774-62D3-40EB-84F4-DFD315D0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34EC4-A327-4F16-8171-DBC7AF3F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9F7ED3-23FC-4733-A026-BBA9A73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A30D66-E47C-4426-812D-28FEB50B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90F9A6-C080-4BBE-9DFB-4CFFCA89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1A16E8-C878-4F42-9CB4-1154C16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B97E11-996D-4A45-9415-56EC356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E5BF8-D5FE-4B6A-AA34-B530C95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4B3254-487F-435C-843F-16DF789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8E90EF-476B-4F21-B74E-188C5CAD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9F3-72AD-4058-9707-0532E750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9086CC-8493-437D-9E0F-2C9EE371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0E7A5-13B3-42CA-9430-64597E64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FCD05-4685-4D46-9615-347C8351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695B4-629C-47A8-A22A-C102C5BD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8AC23-5E82-4B4B-B725-3871DC7A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E1DC4-3709-4B3B-89A1-61B5B00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0DEE3-7DEB-42FF-A109-75A6865C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5E82D-B7B4-40CE-BE00-2A5AEB7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0DCF4-7090-4464-AC98-E26A50B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C032D-E98A-4A11-8FA9-57D2E609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9A2F-F18E-48C2-9DF7-FF7F5B07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3EE8B-FF80-460E-BF55-9DDD6677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1B655-6816-4DCB-BF8E-83B9286C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530E2-62F0-4EC7-8C3D-1811E2B0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9FD1E-0F75-467A-95BF-7AC5FA97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B7466-62D5-4C0C-A331-E1707FA8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2D8DA-8CD6-4A8C-9E1A-117A6F3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8C605-7F54-44B4-AB1B-9BDB1109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9BF33-4D38-4B0B-A9FC-08BB193C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C8B24-932B-45E5-A9F6-66D6025E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47026-FFEB-44BD-A8AE-2A7152F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6B23-F0A7-4FE7-A987-5C40B971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5A5EA-158E-47B5-A71C-23A26E5E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FCE9F-D7A3-4607-A084-68B48F0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8CFD9-E040-4537-9E2B-17D5297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8D785-6AD0-4A21-A760-9BAE8B80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8021C-E95E-47D0-BAE1-1AD9A90D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94F4E-CAF9-45B4-BA47-DECCA901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69BDA-463A-4735-B3D5-1917A55C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08EA0-E676-40BF-A859-4C1CC4E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D5514-6591-45F9-939B-7AA1A4F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C79E1-244E-436D-8B4F-BE869A9A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FA5D-B9B6-4571-AEF7-933F48BE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0FC4B-77AF-47FB-97ED-D2F0E82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DA792-0EC4-4B35-8873-031B2FB6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8F5DD-A89A-47A1-AE09-ADE84E9A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468C5-D5EF-415B-B279-23B008D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5C062-C1DF-47EC-B665-7FC7B307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7DAA5-1E4F-4C10-A81C-4B78E20C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DB054-8890-4823-BE21-081D2A5D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C3B7C-197E-4035-8DD9-440A097A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3F9BA-E4A5-4A44-ADFF-5DB5B3A7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FB933-9B55-4B15-9EC6-682011D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DBE-22F3-48C8-A3BC-175AB15C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3F4FF-8005-4761-B6D4-45DE5567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45786-D466-474D-8754-93A07E3B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2A537-72F2-45F1-AE6B-6441CC57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11FD3-C0E4-41D4-8599-49FE276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43150F-0D05-43DD-BA5C-EE514A3B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9099A-4F2E-4019-AEC6-702FC08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4FB02-C01C-4E07-870E-5F39B8AB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67DD0-BD97-448D-948D-8E196C7A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4D077-5666-4EDA-9F3E-1EEF4D0F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84A4A-12A8-402E-B25E-842E532D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0FDD-B632-4EF0-B662-F2645F82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09D75-7BD0-4FF6-A234-70150211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CA1AD-CDD5-4B41-86FE-424A0D40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C9A59-E982-4045-B70D-B53ADADE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C5D2B-26B2-4899-8DAB-AFD73BFA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0C48F-F96B-4425-BED0-4C647EB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43973-DEA6-42BF-819E-5CA3CFE7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795E7-960D-460B-99C2-D5CAF3C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EA471-6622-49A2-91A6-29208AB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8F2E6-89E4-48CB-91EB-15A8EDE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7C95A-69AB-48CC-8E8C-1679FE32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2DE6-E3B4-4297-8297-B34EA8B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ABDC4-0330-4C39-939B-5C11CB03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53395-2A18-4E52-8BB6-A152CE87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6B9DC-990A-4F30-958D-FF3FFBF3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64AB1-B465-4ECC-8A11-40CA5F65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8E5C4-283E-4D7B-B0DC-5DD2494E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F5BF5-93CF-4D76-B5E7-EF452ADC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0408F-6AC2-40B9-A023-0DE30A2D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150F5-42CF-4F94-A6E5-049EB00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2C9AF-2DA4-4F3D-B329-FE34821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DD481-39AA-451D-A7CC-4F0BBF9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6A18-A2E2-43BF-9E46-FEB38E4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59DD4-39FB-4BAD-9012-3415247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4B520-8D61-4AA2-AF27-0DD0A3C9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BAAADD-EE8A-4749-BD9A-736D6814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A6E465-5E83-4FBB-96BC-DC624971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5826C2-CB2A-439E-9BD3-5F388711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AD1C3C-7F26-4B2D-8FE2-7E550796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497532-A9EB-4624-98AC-B8D785DA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04D4DC-E3D2-43CA-9EA7-D0BEB73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8DCDF4-D7E1-4C8C-864E-6C75CD72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289B0C-F818-4DE0-9437-C8C9497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D3A-ABA0-417A-8A39-531653C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F9B1-C29E-498D-850F-2D8C237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AB4AED-8D79-4F88-AE7A-081EA7F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815517-0594-473F-A894-C4FC46E5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9B0BD5-866D-4AD2-B1BF-3A8B9CA3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133CC6-B3D0-4A6C-BCA9-099835FA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C9285C-CD41-45D5-9C0E-BAF20449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D57C6-3231-4917-A271-20352D3B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41011A-62D2-4F84-91C7-8561EE0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40DC3-E8AF-4E6D-AADB-9B0FB8F5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9A4CF-85E0-4141-90A5-58ECAEB4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D0ED8-E700-44BE-A5BD-B1FEEED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C569-6892-4BBD-8612-8E863AE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8CBE2-F8FC-443B-B7EB-F6DB0C9C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3B3186-5966-4908-842F-CC74DE6D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B539C-FCD6-4DB5-928B-EE64C21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E082A-E587-4945-A6A2-8E5332B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3ADDE-E5DF-4954-9CC9-8F31F03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B5983-9C15-4329-8A7A-8D3DEC1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9649C-EBC1-4BB6-9454-D989B8B8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A4D945-C35C-4B8F-8A44-C12C3C5D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53316-064D-4BEB-BC7B-57FD8AF0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9D68F-91F1-420A-853F-9FA37F43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37FB-9B4D-421E-942D-013DA91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DEB31-484B-4B92-BC8A-B080BDA5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660E9-D083-4415-8EBB-9C4E4B88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D9F14-A1F8-4538-A466-3E3A5BBB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D5C721-11F5-4CB7-B591-58E33A38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F5336-DAE8-4526-ACA0-92F7B463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784A7-EE56-416B-A185-A88B957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F40CC-9F60-4D68-9FF3-BBFE6E9A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71FDB-0A9B-4580-ACA4-CAEBEC34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65948-3F34-4A94-BC30-BBF8330F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E696-CE09-4F3A-A920-8D8617F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B468-0F0A-420B-9F0E-A4279715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6C42-C4E9-4E95-A2DF-2EE81B91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A196-9F8D-4885-83CC-044F5064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4ED2-1F24-476E-8073-BEC0D01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B183-2431-4641-BEBE-3B8A1A5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69C3-9F09-42AA-AE57-EB67008B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3F4-8DF6-4210-9279-539F5E69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A02B-68A0-41D4-8158-98EC64F6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CAEB-4301-4F50-AFF0-8317485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0520-3821-4AF5-9949-F4F147A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E6CF-F60A-45BB-AC46-500758A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A3F9-3C2D-415D-A8C1-9673B5EA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134F-CBFA-47F2-8A1B-6A01B886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2A0C-AED1-4518-A5C7-9A3937D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ED7A1-BDCC-4253-8BBE-6871FBB2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54F2-77DB-4F13-875C-9B3657FE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4113-BBED-40C4-8208-35E93F3D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7F8-CB57-4858-A701-14A4F01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A7E2-92E1-44B5-9869-05CCF8E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9567-407C-45F9-B36B-4C16A02A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6116-170B-4950-AE73-2E1EBD6A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4849-81EC-4C93-AE3C-391FDB5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91D8-8346-41D1-9028-018C3ED7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CD84-2C69-46AC-B197-B704F06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3E10A-C32E-4461-8C09-8BCAFA9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9061D-265B-43B8-86B7-DAEB356F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9EE2-BD97-42CC-B7CA-7D686B3C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C8A7-3DCD-4736-9BC7-E9AB4A24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497-96F5-4D0A-B906-E11881A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9553-533A-4F14-B0CF-B2364560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E935E-BE4E-47F2-A5D7-9B7D1EC9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6183-6097-434A-88D8-ADF1D100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33805-6D25-48DD-9AFC-3E14618A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CA27-7DBF-4C2C-8BA8-3B8C2CF3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6A8A-312D-47CD-A828-03EFF4E9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756B-976F-435B-A3BF-0B8CBC2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8CD87-0996-43A6-ADE1-BCE2790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1A9D-3567-48DA-A621-AFC5E4C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B856-0AA3-4277-AD9E-4E8C9BC4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F9F-69C6-4773-B4C5-22F68FB7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506BA-39F3-4BC4-8A3A-C723D0AB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990B-F8D3-491C-A0C0-645538CB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BD339-312A-4FD5-B941-7EB2C352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5811-B364-42A0-A787-A9173B3A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8200-87B1-49EE-AE72-771DCFA0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8865F-3EA0-4980-A376-C9AD6AB6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00CF0-E3FC-4A76-9817-E25DEB9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4007D-630A-42D3-B26D-811C1E0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E48F-F6B4-4E72-8DC8-9717325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4E858-641D-4252-9D31-492C460C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69B-5BBA-41E7-9F48-8F8163F3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85D61-EA47-484C-B8DC-35A524CA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5ECF6-9BC2-42C3-B69F-2FCD96B8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FE401-15A1-4B08-B4F1-E028E140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0426D-5EE2-441D-A76D-B3B9318F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DCA93-6FBB-44D9-BC90-5ACDE617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A97B86-07C2-4314-B456-4BFF412E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DF820-8A22-45A2-B5D3-5565B3D6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9C6B7-E44E-4AC7-9B35-3458917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71CEF-6CC9-4A0D-848B-3BAF9B8E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7ADBB-53C8-4E15-9722-1F2F5285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C90-20EF-42F7-B59A-FAC83E91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F96B5-761E-4CD5-A688-C07D5E4D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AFD49-DAAE-4E05-B266-054D159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1F3DE-E3D8-48A4-8890-60A30989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D6AFF-BAC4-4D97-92B0-40099046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305DC-537E-4AD6-81E9-F08FD93A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3E98C-4FEC-4E88-BA7A-248C2F51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31D7-87A4-43AC-B78D-DA2CB604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B0BA0-9DB6-44BF-9075-1DEC224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2E510-AE4D-4F36-B2A9-472EFC63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2FB40-C431-45F5-8CF3-55C90A58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0A7-FC75-40AB-83A1-41615CC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B67E-AFD4-42DB-BB13-B458ADF3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D13C3-051B-4FE2-AD20-84A99B6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1B4FB-B3EA-47E7-95C6-2EC4DB3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2769D-6B19-4556-B15C-0EBA269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A0652-92BA-4519-AF1E-0E356CB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C957E-E45D-450C-9AD1-6ABC7A19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20E74-B199-43FC-98B7-81693CB5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67B70-0836-4BA8-B4F4-8BA7E835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50A55-E10E-4676-BE75-42CE8C00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51075-85BE-4A05-B92F-62D73C04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F2A-6200-405C-9A24-EABF735BBDD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54F8-8633-4544-A055-4AAB10B20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6FBE-BD83-4C25-A46D-6CDB5B2AC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71B-247D-424B-BD31-B2141B097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AD89-A6F3-4CFC-B5AD-FD3EDF4A6F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A73F-DCFF-47D2-8F87-FEF4F15F1F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FE1-0867-48D1-91B6-33A1D9C41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7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A62A-845D-4311-8118-D5ECB4741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B5A-47AF-45A1-AE69-0C071DF5BF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72E-4DF0-48E1-BC68-A34121D95E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BF3-F8E8-40F8-94CB-934B2B59B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B01C-A2D3-4F0D-A91F-15BE6FA7AF3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0FC-A797-477B-836C-3702A93432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9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7B79-EBC3-4D60-9400-E6C70F6688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B197-8330-4B21-B9F1-81435E7C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E89C-FCA6-457D-A65C-EA0AA4C0E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6042-1604-4F24-BC4D-15B3DE31D0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8789-56D7-4E65-AADA-C3BCD265C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4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3505-3606-4B0A-9139-5D7DE693FD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flickr.com/photos/smb_flickr/953924495/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066680" y="533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4419720"/>
            <a:ext cx="640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ffcc00"/>
                </a:solidFill>
                <a:latin typeface="French Script MT"/>
              </a:rPr>
              <a:t>Spain</a:t>
            </a:r>
            <a:endParaRPr b="0" lang="en-US" sz="14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ostumes of Spai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5343480" y="2133720"/>
            <a:ext cx="38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iós ami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1230" name="SMARTPenAnnotation0"/>
          <p:cNvSpPr/>
          <p:nvPr/>
        </p:nvSpPr>
        <p:spPr>
          <a:xfrm>
            <a:off x="6278400" y="3814920"/>
            <a:ext cx="17640" cy="52200"/>
          </a:xfrm>
          <a:custGeom>
            <a:avLst/>
            <a:gdLst/>
            <a:ahLst/>
            <a:rect l="l" t="t" r="r" b="b"/>
            <a:pathLst>
              <a:path w="11" h="33">
                <a:moveTo>
                  <a:pt x="10" y="22"/>
                </a:moveTo>
                <a:lnTo>
                  <a:pt x="5" y="27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0" y="32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6"/>
                </a:lnTo>
                <a:lnTo>
                  <a:pt x="4" y="25"/>
                </a:lnTo>
                <a:lnTo>
                  <a:pt x="5" y="22"/>
                </a:lnTo>
                <a:lnTo>
                  <a:pt x="5" y="22"/>
                </a:lnTo>
                <a:lnTo>
                  <a:pt x="5" y="20"/>
                </a:lnTo>
                <a:lnTo>
                  <a:pt x="5" y="1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1" name="SMARTPenAnnotation1"/>
          <p:cNvSpPr/>
          <p:nvPr/>
        </p:nvSpPr>
        <p:spPr>
          <a:xfrm>
            <a:off x="6397560" y="384984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6" y="10"/>
                </a:moveTo>
                <a:lnTo>
                  <a:pt x="6" y="15"/>
                </a:lnTo>
                <a:lnTo>
                  <a:pt x="5" y="15"/>
                </a:lnTo>
                <a:lnTo>
                  <a:pt x="4" y="15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0" y="11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sp-map" descr="Map of Spain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0" y="4038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0 00 N, 400 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apital city is Madri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8" name="sp-map" descr="Map of Spain"/>
          <p:cNvPicPr/>
          <p:nvPr/>
        </p:nvPicPr>
        <p:blipFill>
          <a:blip r:embed="rId1"/>
          <a:stretch/>
        </p:blipFill>
        <p:spPr>
          <a:xfrm>
            <a:off x="0" y="1066680"/>
            <a:ext cx="6400800" cy="57913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608120" y="3367080"/>
            <a:ext cx="1401840" cy="6429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4465" y="10889"/>
                </a:moveTo>
                <a:cubicBezTo>
                  <a:pt x="4777" y="10889"/>
                  <a:pt x="5111" y="10881"/>
                  <a:pt x="5407" y="10914"/>
                </a:cubicBezTo>
                <a:cubicBezTo>
                  <a:pt x="5660" y="10942"/>
                  <a:pt x="5928" y="10914"/>
                  <a:pt x="6176" y="10939"/>
                </a:cubicBezTo>
                <a:cubicBezTo>
                  <a:pt x="6368" y="10958"/>
                  <a:pt x="6561" y="10922"/>
                  <a:pt x="6747" y="10964"/>
                </a:cubicBezTo>
                <a:cubicBezTo>
                  <a:pt x="6782" y="10972"/>
                  <a:pt x="6801" y="10981"/>
                  <a:pt x="6846" y="10988"/>
                </a:cubicBezTo>
                <a:cubicBezTo>
                  <a:pt x="6855" y="10991"/>
                  <a:pt x="6935" y="11003"/>
                  <a:pt x="6970" y="11013"/>
                </a:cubicBezTo>
                <a:cubicBezTo>
                  <a:pt x="7023" y="11028"/>
                  <a:pt x="7056" y="11036"/>
                  <a:pt x="7119" y="11038"/>
                </a:cubicBezTo>
                <a:cubicBezTo>
                  <a:pt x="7213" y="11041"/>
                  <a:pt x="7313" y="11053"/>
                  <a:pt x="7392" y="11063"/>
                </a:cubicBezTo>
                <a:cubicBezTo>
                  <a:pt x="7583" y="11087"/>
                  <a:pt x="7794" y="11063"/>
                  <a:pt x="7987" y="11063"/>
                </a:cubicBezTo>
                <a:cubicBezTo>
                  <a:pt x="8026" y="11101"/>
                  <a:pt x="7961" y="11098"/>
                  <a:pt x="8037" y="11112"/>
                </a:cubicBezTo>
                <a:cubicBezTo>
                  <a:pt x="8075" y="11119"/>
                  <a:pt x="8122" y="11112"/>
                  <a:pt x="8161" y="11112"/>
                </a:cubicBezTo>
                <a:cubicBezTo>
                  <a:pt x="8163" y="11113"/>
                  <a:pt x="8193" y="11129"/>
                  <a:pt x="8210" y="11137"/>
                </a:cubicBezTo>
              </a:path>
              <a:path w="3895" h="1787">
                <a:moveTo>
                  <a:pt x="4490" y="9401"/>
                </a:moveTo>
                <a:cubicBezTo>
                  <a:pt x="4527" y="9392"/>
                  <a:pt x="4554" y="9384"/>
                  <a:pt x="4589" y="9376"/>
                </a:cubicBezTo>
                <a:cubicBezTo>
                  <a:pt x="4671" y="9357"/>
                  <a:pt x="4752" y="9354"/>
                  <a:pt x="4837" y="9351"/>
                </a:cubicBezTo>
                <a:cubicBezTo>
                  <a:pt x="5206" y="9340"/>
                  <a:pt x="5595" y="9336"/>
                  <a:pt x="5953" y="9376"/>
                </a:cubicBezTo>
                <a:cubicBezTo>
                  <a:pt x="6165" y="9400"/>
                  <a:pt x="6399" y="9379"/>
                  <a:pt x="6598" y="9401"/>
                </a:cubicBezTo>
                <a:cubicBezTo>
                  <a:pt x="6881" y="9432"/>
                  <a:pt x="7180" y="9401"/>
                  <a:pt x="7466" y="9401"/>
                </a:cubicBezTo>
                <a:cubicBezTo>
                  <a:pt x="7498" y="9422"/>
                  <a:pt x="7469" y="9430"/>
                  <a:pt x="7541" y="9451"/>
                </a:cubicBezTo>
                <a:cubicBezTo>
                  <a:pt x="7598" y="9467"/>
                  <a:pt x="7659" y="9479"/>
                  <a:pt x="7714" y="9500"/>
                </a:cubicBezTo>
                <a:cubicBezTo>
                  <a:pt x="7774" y="9523"/>
                  <a:pt x="7836" y="9553"/>
                  <a:pt x="7888" y="9575"/>
                </a:cubicBezTo>
                <a:cubicBezTo>
                  <a:pt x="7935" y="9595"/>
                  <a:pt x="7937" y="9593"/>
                  <a:pt x="7987" y="9599"/>
                </a:cubicBezTo>
                <a:cubicBezTo>
                  <a:pt x="8050" y="9606"/>
                  <a:pt x="8136" y="9578"/>
                  <a:pt x="8161" y="9575"/>
                </a:cubicBezTo>
                <a:cubicBezTo>
                  <a:pt x="8225" y="9567"/>
                  <a:pt x="8295" y="9575"/>
                  <a:pt x="835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589040" y="3463920"/>
            <a:ext cx="1800" cy="358920"/>
          </a:xfrm>
          <a:custGeom>
            <a:avLst/>
            <a:gdLst/>
            <a:ahLst/>
            <a:rect l="l" t="t" r="r" b="b"/>
            <a:pathLst>
              <a:path w="1" h="993">
                <a:moveTo>
                  <a:pt x="4415" y="9624"/>
                </a:moveTo>
                <a:cubicBezTo>
                  <a:pt x="4415" y="9955"/>
                  <a:pt x="4415" y="10285"/>
                  <a:pt x="4415" y="106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46240" y="3510000"/>
            <a:ext cx="36720" cy="446040"/>
          </a:xfrm>
          <a:custGeom>
            <a:avLst/>
            <a:gdLst/>
            <a:ahLst/>
            <a:rect l="l" t="t" r="r" b="b"/>
            <a:pathLst>
              <a:path w="100" h="1241">
                <a:moveTo>
                  <a:pt x="8285" y="9748"/>
                </a:moveTo>
                <a:cubicBezTo>
                  <a:pt x="8285" y="9951"/>
                  <a:pt x="8321" y="10210"/>
                  <a:pt x="8260" y="10393"/>
                </a:cubicBezTo>
                <a:cubicBezTo>
                  <a:pt x="8251" y="10419"/>
                  <a:pt x="8260" y="10464"/>
                  <a:pt x="8260" y="10492"/>
                </a:cubicBezTo>
                <a:cubicBezTo>
                  <a:pt x="8222" y="10505"/>
                  <a:pt x="8235" y="10522"/>
                  <a:pt x="8235" y="10567"/>
                </a:cubicBezTo>
                <a:cubicBezTo>
                  <a:pt x="8235" y="10623"/>
                  <a:pt x="8225" y="10645"/>
                  <a:pt x="8210" y="10691"/>
                </a:cubicBezTo>
                <a:cubicBezTo>
                  <a:pt x="8190" y="10750"/>
                  <a:pt x="8210" y="10851"/>
                  <a:pt x="8210" y="10914"/>
                </a:cubicBezTo>
                <a:cubicBezTo>
                  <a:pt x="8174" y="10927"/>
                  <a:pt x="8186" y="10944"/>
                  <a:pt x="8186" y="10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7984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-92160" y="3549600"/>
            <a:ext cx="588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3581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 40,525,002 people In Spain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ut of the total population of  Spain  98.7% of people  can read and Wri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4952880" y="3619440"/>
            <a:ext cx="2286000" cy="32385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876920" y="762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type of government that Spain has is Parliamentary monarchy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3"/>
          <a:stretch/>
        </p:blipFill>
        <p:spPr>
          <a:xfrm>
            <a:off x="6419880" y="2209680"/>
            <a:ext cx="27241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rai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land is flat and have small hills and Pyrenees in the north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5715000" cy="320040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733920" cy="29624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4648320" y="29718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summers in the main land. Mostly cloudy along the coast. Winters in the main land are co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21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2600" y="3886200"/>
            <a:ext cx="93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Natural hazards in Spain is that there may be no rain at time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6172200" y="4626000"/>
            <a:ext cx="781200" cy="58428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190600" y="1647720"/>
            <a:ext cx="4743720" cy="35481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Val d'Aran Salardu depuis Unha by BB33FR."/>
          <p:cNvPicPr/>
          <p:nvPr/>
        </p:nvPicPr>
        <p:blipFill>
          <a:blip r:embed="rId4"/>
          <a:stretch/>
        </p:blipFill>
        <p:spPr>
          <a:xfrm>
            <a:off x="4419720" y="13716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6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Santa Cristina Beach / Platja de Santa Cristina (I) by . SantiMB 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64160" y="0"/>
            <a:ext cx="267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ighboring Countr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western Europe; bordering Bay of Biscay (South end) , southwest of France, Mediterranean sea, and East side of Portuga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May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anadian Dollars = 15.96406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Euro (EUR) = 39.15045 Canadian Dollar (CA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6:29Z</dcterms:created>
  <dc:creator>ICt Department</dc:creator>
  <dc:description/>
  <dc:language>en-US</dc:language>
  <cp:lastModifiedBy>ICt Department</cp:lastModifiedBy>
  <dcterms:modified xsi:type="dcterms:W3CDTF">2009-05-26T16:10:57Z</dcterms:modified>
  <cp:revision>5</cp:revision>
  <dc:subject/>
  <dc:title>Slide 1</dc:title>
</cp:coreProperties>
</file>