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E6C-CD99-442C-B0E5-C7DEA749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1FD-C423-4610-A787-6B4A9AA9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1400A-C146-43EF-8654-D3E6DE74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211CF-68C2-4642-AC2B-B159378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D4DC1-02A2-401D-90D2-8E8D624B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2FA9-A47A-493A-9B13-01BA3D86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2B87E-E1E4-4380-B86C-0A3F5EC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F7DAF-8B4E-4911-933F-11FC7FB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D74C9-F755-476D-8105-333B2AA3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12668-3840-421D-A49C-F4ECA4D2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3E505-00C0-4EE3-88D1-7A1A8666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153E26-46C6-4AB2-B1B1-8A736361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301-E8F5-4889-8E52-079B8927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682473-0C12-45EF-A9B0-7B6B88F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4DE7A9-4842-4828-BA09-F615D40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86CC50-4227-412F-99A0-4D50C105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98719-79D3-4706-889D-AA48B075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0B688-A821-42C0-8FA5-AF51D32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0AAAC0-008F-449B-BAFA-6850F7F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75273A-D4BB-48D8-A771-29253707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52622-D157-4060-99EE-A02DFCF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E65D0C-B570-4BA0-AF2B-883F0B4D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55D65D-625A-4F27-914F-6672532B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4D2-E138-4F2E-A88E-35C1A3B9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8ECB6-33F6-42FB-A66A-1CD40098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EE82D-6506-4F20-AF59-F201BDAB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E6FE1-3951-4756-8F39-489CB3E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2D292-F69D-447B-8DA5-BC44E84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98EEE-8590-47A9-AD4F-59B3CC78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F7569-6FAC-4054-8DB2-755A8844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96C7-937D-4263-A537-B105A11B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AD3AC-C598-477C-A032-D540425B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E877A-5BBB-487A-83D4-648A31A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B546D-FC07-42B4-AD5A-84062519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9A15-0AEF-420A-81F4-F18478F0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A1C7-6A8F-470F-90BF-D5AE714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995DF-EFD5-4AFD-B553-4C0C3C09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7B187-B39B-44E5-B848-A941E57C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47C95-3745-4708-982C-F8180FC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5E580-253B-4475-9021-3B21486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7FFDC-B31F-4D0F-8934-D64785A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435A0-7A36-4DED-B751-3258650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E4725-D8CF-49A4-BDA7-C3FC176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0F448-7057-4732-96A9-3251D171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ADBA9-9023-4430-B6D1-0C00F0AE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E0BF-A3C2-46AE-A6DA-1353CEA8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4CB73-ABB0-4666-AD77-67CF477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B30B5-3A5C-49A4-85BC-E3AA7B8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803F0-EF94-4066-B434-A4347AE9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D83C9-9AC9-470D-ABB7-2C58164F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AC891-0A04-4D06-8886-82B741A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079C2-2FF9-46E6-A503-C3B528E7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AD6F7-12F4-40A6-8126-8B6FADE9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79E10-8713-47C3-BF64-28C7B300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CEEB3-597B-4EB5-9BDA-095C7F6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2AB8A-5D98-4F8C-91DA-1059892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AE44-1ABD-4189-85C7-C1056EBB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B4237F-D22E-4F9D-A0BD-D79CE0B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85A63-3D1C-4FA2-AE43-25E71E5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5574E-200E-4F3C-9ED9-38C5DDA5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3DF40-A532-4818-973C-FB09FAA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0088A-EBBF-46A4-9572-2B16996D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93E0B-8D60-43B2-98E6-3D2805B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CDE38-D032-43A0-B7B4-37EE15DD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0913A-DC38-4CDD-9010-3B0B4C0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046FD-D8FC-4B96-B063-776DCEB0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C57DC-8BE7-47E7-882D-BA6FB6CE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EBBA-270D-41B1-97ED-F37D8202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64AF8-11A6-4224-85A9-4F69F13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B5BA0-694E-4CD6-AE3A-F81D65D5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0B593-6A1A-4CB2-A007-F137CE5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284AE-9195-4053-B640-D9B7F1CD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8BF0D6-8070-45D7-80AB-DA15ADE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9211B-9E71-45AD-B05A-3EE9033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3BD16-E2DB-44F3-AC14-C0D96ADA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1996B-694C-463B-8B51-EA0F8864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5AC5A-2C08-4CB9-B50E-0ACF755B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05748-4111-43C9-9F21-F8EEC2FF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DA2A-6F9D-4EEC-968E-6186A8D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65CB2-4248-4CF1-8E2D-9D1E4A1A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CBAA7-6B04-4FDD-8F5B-B0DE3D4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67EBC-8F7F-4F62-97C2-04BD9D1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8DD59-26B0-4F32-BC08-92C6FB4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18BF4E-48BA-497A-985F-1230056E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738F2-AC97-4441-AA5D-FADD3AA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11D0E-B316-4EBE-9B0B-913710F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EA90E-6AC1-492A-8D66-E0E86F5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6868F9-B808-4874-973E-DB556512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E6D162-C3F6-4AAC-B8BC-7D87A279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E07-66F2-435D-A17A-5643AB83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51CC5-9EBF-474F-BE44-0837A54C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D40AF-9E01-44B3-895B-FA1A8FAD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6EA1F-19A5-45AC-8F95-8E217B40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3FBB8-A076-4616-A782-0C70FD8A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356C0-4109-4851-8000-E09DF169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3F780-2BED-483B-8CE1-E039D58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5EFB7-1A3F-4B54-AF66-8587BE7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7D558B-366C-4200-826E-657F8F4B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65547-9A8E-4B4A-8105-6CDDF7FD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AEEFEF-127F-4C9A-B25C-31CA13C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7152-FA8D-40EF-8DE3-DB3FC70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F2644-5A0E-4D19-AC0C-4485F3C0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1F084-5118-4CDB-96EA-029CEE0F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FD34CA-4C71-4C82-A10E-9D921466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CEBE00-958B-41BF-9E4D-B72FD75E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0DD59B-0123-4E83-9ED7-CF27AB7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838842-5FAD-4886-BFCE-F8A1CA1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234546-928D-401D-AE05-9FF70901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E853C1F-CE84-4ACC-80E8-EBC3310E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BB591D-8895-4252-BF36-0CB8CE5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E02D01-0F8C-4137-841B-4452BA7E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E22-B17A-48EB-878B-C92EE76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37D0-5ADA-4FA3-BE86-31816086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0A7B0E-0C71-4C94-9D81-22FF3C7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95BD3A-4AB9-40B6-A1EC-E6CC7EDC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E2BB16-69E8-4B2E-8746-AD8F2735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7DE65C-0997-4978-9F8C-2C0C4C30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B57061-B37B-4FF1-AD06-224C87EA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700A9-D20A-4CA0-9E08-08120A20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4121F-273F-4AD1-8F44-20FBB85E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916F9-5F85-46CA-89A3-8B9B0893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C3EB1-CC69-4BE9-8780-27819443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49A9F-3EAD-42AE-A7D1-CD7527CB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4673-D24A-47FB-AD05-8A6ECC8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33741-2DBE-47E3-9923-A7E9548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7A668-8D96-483A-ACFE-56E0998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C24502-C68C-4DAA-A5FE-A4CEE46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4FCBB-F534-4F25-B4F2-6BE54A3A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AE252-B26D-454C-BA9E-36F9AC01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B1259-3ADD-4561-8F67-293EA7E5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DB78DC-B48A-4562-99D9-3CEB5010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8FD3C-40F0-474D-9D9A-20A4ADD7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F7A06F-3AAD-40EA-86F1-64A1206E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5A91C5-B860-4F63-9C73-91929068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767E-9760-4FD2-9D34-C9B3676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88596-6C8B-4E52-B207-4579C0C0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F5D4B-A35C-415D-8AE6-0D2269FD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94D3F1-BBC4-4E28-B958-000A937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25F7A-9DB1-4DFA-BF49-55CDB0EA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B2A3F-398B-4991-B0AC-C2D5BF7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E18B8-5038-49D0-9543-98C8262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1A632-739C-406C-BAD5-CF6CFC7D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4C4C05-C315-4BD2-B268-589E88AC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AE8E57-8E30-4F9A-B178-0DDD94DB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7FB4-DEE5-4C0A-9846-1C6B2FCF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B2E-8D66-4208-B446-43739923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7570-FEEF-48F6-9D60-B0F4A84F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58A2-862C-4AC5-85EB-EFD1650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D3C1-9BB6-44C4-84D9-FCA0EE86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9BDE-5F26-4502-B41A-BAB90356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4595-5FBE-4278-9B3D-D5E4AC3D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ADE-3852-464B-877A-AB3A156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DD17B-9F34-42DA-AC61-8F830469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5457-BCD0-428E-8469-C5D2A304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9A7B-C651-41D7-9A76-B060C418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0833-9D8D-40A1-8CD6-6CECF7C7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A912-04AD-4845-B1F5-8813198E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E117-5304-4913-93A4-61D5F1C4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E6AA-7487-43FE-BA9A-C52D28B3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04EA-CAD9-4D5C-9ABF-C841012D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91581-499F-4C99-9B4B-7E40BD48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7B9CB-2C52-4DDD-87E1-83ED6AD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3CF-582B-4F31-A296-5A52B92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48E2-3E3E-472A-B91D-C3495FCB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8547-6EAF-45AD-903D-31516DA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9985A-7E7E-465A-96C9-07234441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216E5-71DD-4159-A611-3B6C6D5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ED9E3-AA0C-402D-962D-CCE83A30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BE3E4-8DDB-42D3-A37E-E8366B5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326AA-79AF-4332-A76E-01D2A519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169E5-DB8D-4C49-B3E7-2E6A7390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026A4-DC52-4118-B011-32CDE2E6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F2B8-5E8A-48DF-BCEF-F9439072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8CD0-24AC-4A5D-8DFA-7E5A19B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3E55-9788-4FB0-B7CA-ED0BD47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DFAF0-E97B-4E3E-A6B9-7D21D635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4377-AB21-4C5F-A118-4EEC72C0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6390E-2675-48E7-92C6-CE4646F1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51005-59F7-4C31-B9D9-FC1E0FA3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7074-992E-4ABC-AA8B-83FB665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59FA6-926D-4E76-93FC-F5CFFE12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B9291-0F49-4D1F-A7CE-1391849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ECD60-939A-44BA-903F-4D1B01E2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8456-3108-438B-8F3D-0538CFC5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9E23-0FC6-44B0-9E79-FA334030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E224-DD9D-444E-84E9-F535C324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B7A3-3B72-4046-8DE0-739D5718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7C720-0EE1-419D-A9EA-CD905998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8F8CE-491D-48C5-B388-A9FB88B8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B184B-036B-462A-84D9-DB6A552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EB40-4430-4F77-BA95-3EEDE1D5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B6DF8-4F80-4273-9CCA-8C0AA22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98470-2EDC-49EC-93A3-0EC61FE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0616A-847C-4201-B87D-B8A62BD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2F14E-E2D3-440C-A396-36422BD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8CC-B105-4FB8-B428-DCE1D6E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AFD05-3034-4DCD-B043-D343A4A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764E-4CB7-4BDC-9B08-84486B37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BFE56-A8F6-4955-815B-1AF35BA1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919F0A-3D85-48C5-9BEC-5DA204B0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0CA2F6-419E-484E-BEA1-DA78A9D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B176C-96FC-45CB-A6D3-7CBB18E2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EC31B-EA36-46CB-BBAC-7DA38287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A2A20-5B98-4398-877A-97B59DA9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64B7B-288C-4EE7-8DA2-7887B287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32AAC7-63D5-42D5-B554-11655A7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FCB-6D60-42FF-A6ED-167A6571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FC5F6-5AE8-4DF5-95AA-6466A9F4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5B11B-5256-4E7A-A106-7EB8D0F7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37FE9-4A82-4E6A-85F5-8068558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34A09-7FA7-4408-B67B-7DC548ED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F1916-A5D0-43BD-8CEA-AB6FFB39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4ABDC-8AE1-4107-9CB0-122A0A22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218C4-64BD-4C7D-8CFE-83142101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18EF6-E7D6-4F6E-92B1-BA61512F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00E9-6080-4B53-994C-002DB6A3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6898F-F1E8-4632-A604-480452A4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944-56F4-4BC9-8336-B6F12C9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37EA8-E441-4007-B80E-9DDFCB65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12254-4976-45E4-8F29-8E6F0BA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D5133-C836-4796-A64D-7F280F5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9BA52-DF5D-4BC0-8D01-F90D8765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95EA-0BE0-4440-A74F-711AE28B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0FF9-6BEB-46C1-8F45-2426BD2A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531D-BB35-4E15-A7E7-878370FC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55519-9464-4AD0-AAEA-07C2AC3A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A7E0A-0490-4989-B708-56C356B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3E96E-575B-4114-B2D7-475FF66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7A19-997B-4755-891B-0001A644C49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9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0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1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9393-26E0-4474-9316-4A715C287E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682-1BD3-4EB7-AB00-32FAEAD5D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085A-B24B-40DF-95AA-A72B69C60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BC9A-8DD1-4D71-9AC6-6299FC21AD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F6F-F2A7-4423-836A-81B732319B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AA5B-113C-4A1E-B94D-EC1C5B6C0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7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DC06-0E47-4552-BC35-FE965D9B2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699-4A77-4871-B567-76DA2AB6333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dt" idx="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7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6DED-C038-4810-AE5C-C90567FE11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9B34-3B54-4EFA-BD94-5FA84EDB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CF72-B620-423F-B2A9-4D4116739D0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CF5E-F18D-4E54-A845-C632865610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9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6D50-CA49-44A9-9D56-0EBA41C74D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E43D-0E47-4383-A34B-C33E0802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ABC7-5726-487C-A205-559752ADB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E6E8-AB58-4916-8C3B-F5680C4B6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1005-75DA-411C-BE9E-865A4DE4BE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3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4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4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AD9-291D-4CD8-AC11-4F5A53DEA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9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hyperlink" Target="http://www.flickr.com/photos/smb_flickr/953924495/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1066680" y="5335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4419720"/>
            <a:ext cx="640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200" spc="-1" strike="noStrike">
                <a:solidFill>
                  <a:srgbClr val="ffcc00"/>
                </a:solidFill>
                <a:latin typeface="French Script MT"/>
              </a:rPr>
              <a:t>Spain</a:t>
            </a:r>
            <a:endParaRPr b="0" lang="en-US" sz="14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ostumes of Spai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5257800" cy="4495680"/>
          </a:xfrm>
          <a:prstGeom prst="rect">
            <a:avLst/>
          </a:prstGeom>
          <a:ln w="0">
            <a:noFill/>
          </a:ln>
        </p:spPr>
      </p:pic>
      <p:pic>
        <p:nvPicPr>
          <p:cNvPr id="1226" name="" descr=""/>
          <p:cNvPicPr/>
          <p:nvPr/>
        </p:nvPicPr>
        <p:blipFill>
          <a:blip r:embed="rId2"/>
          <a:stretch/>
        </p:blipFill>
        <p:spPr>
          <a:xfrm>
            <a:off x="5343480" y="2133720"/>
            <a:ext cx="3800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iós amig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5638680" cy="4343400"/>
          </a:xfrm>
          <a:prstGeom prst="rect">
            <a:avLst/>
          </a:prstGeom>
          <a:ln w="0">
            <a:noFill/>
          </a:ln>
        </p:spPr>
      </p:pic>
      <p:sp>
        <p:nvSpPr>
          <p:cNvPr id="1230" name="SMARTPenAnnotation0"/>
          <p:cNvSpPr/>
          <p:nvPr/>
        </p:nvSpPr>
        <p:spPr>
          <a:xfrm>
            <a:off x="6278400" y="3814920"/>
            <a:ext cx="17640" cy="52200"/>
          </a:xfrm>
          <a:custGeom>
            <a:avLst/>
            <a:gdLst/>
            <a:ahLst/>
            <a:rect l="l" t="t" r="r" b="b"/>
            <a:pathLst>
              <a:path w="11" h="33">
                <a:moveTo>
                  <a:pt x="10" y="22"/>
                </a:moveTo>
                <a:lnTo>
                  <a:pt x="5" y="27"/>
                </a:lnTo>
                <a:lnTo>
                  <a:pt x="5" y="27"/>
                </a:lnTo>
                <a:lnTo>
                  <a:pt x="5" y="29"/>
                </a:lnTo>
                <a:lnTo>
                  <a:pt x="5" y="30"/>
                </a:lnTo>
                <a:lnTo>
                  <a:pt x="4" y="31"/>
                </a:lnTo>
                <a:lnTo>
                  <a:pt x="3" y="31"/>
                </a:lnTo>
                <a:lnTo>
                  <a:pt x="0" y="32"/>
                </a:lnTo>
                <a:lnTo>
                  <a:pt x="0" y="32"/>
                </a:lnTo>
                <a:lnTo>
                  <a:pt x="0" y="31"/>
                </a:lnTo>
                <a:lnTo>
                  <a:pt x="0" y="27"/>
                </a:lnTo>
                <a:lnTo>
                  <a:pt x="0" y="27"/>
                </a:lnTo>
                <a:lnTo>
                  <a:pt x="1" y="27"/>
                </a:lnTo>
                <a:lnTo>
                  <a:pt x="2" y="27"/>
                </a:lnTo>
                <a:lnTo>
                  <a:pt x="3" y="26"/>
                </a:lnTo>
                <a:lnTo>
                  <a:pt x="4" y="25"/>
                </a:lnTo>
                <a:lnTo>
                  <a:pt x="5" y="22"/>
                </a:lnTo>
                <a:lnTo>
                  <a:pt x="5" y="22"/>
                </a:lnTo>
                <a:lnTo>
                  <a:pt x="5" y="20"/>
                </a:lnTo>
                <a:lnTo>
                  <a:pt x="5" y="16"/>
                </a:ln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1" name="SMARTPenAnnotation1"/>
          <p:cNvSpPr/>
          <p:nvPr/>
        </p:nvSpPr>
        <p:spPr>
          <a:xfrm>
            <a:off x="6397560" y="3849840"/>
            <a:ext cx="11160" cy="27000"/>
          </a:xfrm>
          <a:custGeom>
            <a:avLst/>
            <a:gdLst/>
            <a:ahLst/>
            <a:rect l="l" t="t" r="r" b="b"/>
            <a:pathLst>
              <a:path w="7" h="17">
                <a:moveTo>
                  <a:pt x="6" y="10"/>
                </a:moveTo>
                <a:lnTo>
                  <a:pt x="6" y="15"/>
                </a:lnTo>
                <a:lnTo>
                  <a:pt x="5" y="15"/>
                </a:lnTo>
                <a:lnTo>
                  <a:pt x="4" y="15"/>
                </a:lnTo>
                <a:lnTo>
                  <a:pt x="0" y="16"/>
                </a:lnTo>
                <a:lnTo>
                  <a:pt x="0" y="15"/>
                </a:lnTo>
                <a:lnTo>
                  <a:pt x="0" y="14"/>
                </a:lnTo>
                <a:lnTo>
                  <a:pt x="0" y="11"/>
                </a:lnTo>
                <a:lnTo>
                  <a:pt x="0" y="2"/>
                </a:lnTo>
                <a:lnTo>
                  <a:pt x="1" y="1"/>
                </a:lnTo>
                <a:lnTo>
                  <a:pt x="2" y="1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sp-map" descr="Map of Spain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>
            <a:off x="0" y="4038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40 00 N, 400 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apital city is Madrid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8" name="sp-map" descr="Map of Spain"/>
          <p:cNvPicPr/>
          <p:nvPr/>
        </p:nvPicPr>
        <p:blipFill>
          <a:blip r:embed="rId1"/>
          <a:stretch/>
        </p:blipFill>
        <p:spPr>
          <a:xfrm>
            <a:off x="0" y="1066680"/>
            <a:ext cx="6400800" cy="579132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608120" y="3367080"/>
            <a:ext cx="1401840" cy="642960"/>
          </a:xfrm>
          <a:custGeom>
            <a:avLst/>
            <a:gdLst/>
            <a:ahLst/>
            <a:rect l="l" t="t" r="r" b="b"/>
            <a:pathLst>
              <a:path w="3895" h="1787">
                <a:moveTo>
                  <a:pt x="4465" y="10889"/>
                </a:moveTo>
                <a:cubicBezTo>
                  <a:pt x="4777" y="10889"/>
                  <a:pt x="5111" y="10881"/>
                  <a:pt x="5407" y="10914"/>
                </a:cubicBezTo>
                <a:cubicBezTo>
                  <a:pt x="5660" y="10942"/>
                  <a:pt x="5928" y="10914"/>
                  <a:pt x="6176" y="10939"/>
                </a:cubicBezTo>
                <a:cubicBezTo>
                  <a:pt x="6368" y="10958"/>
                  <a:pt x="6561" y="10922"/>
                  <a:pt x="6747" y="10964"/>
                </a:cubicBezTo>
                <a:cubicBezTo>
                  <a:pt x="6782" y="10972"/>
                  <a:pt x="6801" y="10981"/>
                  <a:pt x="6846" y="10988"/>
                </a:cubicBezTo>
                <a:cubicBezTo>
                  <a:pt x="6855" y="10991"/>
                  <a:pt x="6935" y="11003"/>
                  <a:pt x="6970" y="11013"/>
                </a:cubicBezTo>
                <a:cubicBezTo>
                  <a:pt x="7023" y="11028"/>
                  <a:pt x="7056" y="11036"/>
                  <a:pt x="7119" y="11038"/>
                </a:cubicBezTo>
                <a:cubicBezTo>
                  <a:pt x="7213" y="11041"/>
                  <a:pt x="7313" y="11053"/>
                  <a:pt x="7392" y="11063"/>
                </a:cubicBezTo>
                <a:cubicBezTo>
                  <a:pt x="7583" y="11087"/>
                  <a:pt x="7794" y="11063"/>
                  <a:pt x="7987" y="11063"/>
                </a:cubicBezTo>
                <a:cubicBezTo>
                  <a:pt x="8026" y="11101"/>
                  <a:pt x="7961" y="11098"/>
                  <a:pt x="8037" y="11112"/>
                </a:cubicBezTo>
                <a:cubicBezTo>
                  <a:pt x="8075" y="11119"/>
                  <a:pt x="8122" y="11112"/>
                  <a:pt x="8161" y="11112"/>
                </a:cubicBezTo>
                <a:cubicBezTo>
                  <a:pt x="8163" y="11113"/>
                  <a:pt x="8193" y="11129"/>
                  <a:pt x="8210" y="11137"/>
                </a:cubicBezTo>
              </a:path>
              <a:path w="3895" h="1787">
                <a:moveTo>
                  <a:pt x="4490" y="9401"/>
                </a:moveTo>
                <a:cubicBezTo>
                  <a:pt x="4527" y="9392"/>
                  <a:pt x="4554" y="9384"/>
                  <a:pt x="4589" y="9376"/>
                </a:cubicBezTo>
                <a:cubicBezTo>
                  <a:pt x="4671" y="9357"/>
                  <a:pt x="4752" y="9354"/>
                  <a:pt x="4837" y="9351"/>
                </a:cubicBezTo>
                <a:cubicBezTo>
                  <a:pt x="5206" y="9340"/>
                  <a:pt x="5595" y="9336"/>
                  <a:pt x="5953" y="9376"/>
                </a:cubicBezTo>
                <a:cubicBezTo>
                  <a:pt x="6165" y="9400"/>
                  <a:pt x="6399" y="9379"/>
                  <a:pt x="6598" y="9401"/>
                </a:cubicBezTo>
                <a:cubicBezTo>
                  <a:pt x="6881" y="9432"/>
                  <a:pt x="7180" y="9401"/>
                  <a:pt x="7466" y="9401"/>
                </a:cubicBezTo>
                <a:cubicBezTo>
                  <a:pt x="7498" y="9422"/>
                  <a:pt x="7469" y="9430"/>
                  <a:pt x="7541" y="9451"/>
                </a:cubicBezTo>
                <a:cubicBezTo>
                  <a:pt x="7598" y="9467"/>
                  <a:pt x="7659" y="9479"/>
                  <a:pt x="7714" y="9500"/>
                </a:cubicBezTo>
                <a:cubicBezTo>
                  <a:pt x="7774" y="9523"/>
                  <a:pt x="7836" y="9553"/>
                  <a:pt x="7888" y="9575"/>
                </a:cubicBezTo>
                <a:cubicBezTo>
                  <a:pt x="7935" y="9595"/>
                  <a:pt x="7937" y="9593"/>
                  <a:pt x="7987" y="9599"/>
                </a:cubicBezTo>
                <a:cubicBezTo>
                  <a:pt x="8050" y="9606"/>
                  <a:pt x="8136" y="9578"/>
                  <a:pt x="8161" y="9575"/>
                </a:cubicBezTo>
                <a:cubicBezTo>
                  <a:pt x="8225" y="9567"/>
                  <a:pt x="8295" y="9575"/>
                  <a:pt x="8359" y="95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589040" y="3463920"/>
            <a:ext cx="1800" cy="358920"/>
          </a:xfrm>
          <a:custGeom>
            <a:avLst/>
            <a:gdLst/>
            <a:ahLst/>
            <a:rect l="l" t="t" r="r" b="b"/>
            <a:pathLst>
              <a:path w="1" h="993">
                <a:moveTo>
                  <a:pt x="4415" y="9624"/>
                </a:moveTo>
                <a:cubicBezTo>
                  <a:pt x="4415" y="9955"/>
                  <a:pt x="4415" y="10285"/>
                  <a:pt x="4415" y="1061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946240" y="3510000"/>
            <a:ext cx="36720" cy="446040"/>
          </a:xfrm>
          <a:custGeom>
            <a:avLst/>
            <a:gdLst/>
            <a:ahLst/>
            <a:rect l="l" t="t" r="r" b="b"/>
            <a:pathLst>
              <a:path w="100" h="1241">
                <a:moveTo>
                  <a:pt x="8285" y="9748"/>
                </a:moveTo>
                <a:cubicBezTo>
                  <a:pt x="8285" y="9951"/>
                  <a:pt x="8321" y="10210"/>
                  <a:pt x="8260" y="10393"/>
                </a:cubicBezTo>
                <a:cubicBezTo>
                  <a:pt x="8251" y="10419"/>
                  <a:pt x="8260" y="10464"/>
                  <a:pt x="8260" y="10492"/>
                </a:cubicBezTo>
                <a:cubicBezTo>
                  <a:pt x="8222" y="10505"/>
                  <a:pt x="8235" y="10522"/>
                  <a:pt x="8235" y="10567"/>
                </a:cubicBezTo>
                <a:cubicBezTo>
                  <a:pt x="8235" y="10623"/>
                  <a:pt x="8225" y="10645"/>
                  <a:pt x="8210" y="10691"/>
                </a:cubicBezTo>
                <a:cubicBezTo>
                  <a:pt x="8190" y="10750"/>
                  <a:pt x="8210" y="10851"/>
                  <a:pt x="8210" y="10914"/>
                </a:cubicBezTo>
                <a:cubicBezTo>
                  <a:pt x="8174" y="10927"/>
                  <a:pt x="8186" y="10944"/>
                  <a:pt x="8186" y="10988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7984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-92160" y="3549600"/>
            <a:ext cx="588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0" y="35812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re are  40,525,002 people In Spain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ut of the total population of  Spain  98.7% of people  can read and Wri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4952880" y="3619440"/>
            <a:ext cx="2286000" cy="32385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876920" y="7621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type of government that Spain has is Parliamentary monarchy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3"/>
          <a:stretch/>
        </p:blipFill>
        <p:spPr>
          <a:xfrm>
            <a:off x="6419880" y="2209680"/>
            <a:ext cx="27241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errai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ain’s land is flat and have small hills and Pyrenees in the north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5715000" cy="3200400"/>
          </a:xfrm>
          <a:prstGeom prst="rect">
            <a:avLst/>
          </a:prstGeom>
          <a:ln w="0">
            <a:noFill/>
          </a:ln>
        </p:spPr>
      </p:pic>
      <p:pic>
        <p:nvPicPr>
          <p:cNvPr id="1202" name="" descr=""/>
          <p:cNvPicPr/>
          <p:nvPr/>
        </p:nvPicPr>
        <p:blipFill>
          <a:blip r:embed="rId3"/>
          <a:stretch/>
        </p:blipFill>
        <p:spPr>
          <a:xfrm>
            <a:off x="5410080" y="2514600"/>
            <a:ext cx="3733920" cy="296244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4648320" y="29718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mat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summers in the main land. Mostly cloudy along the coast. Winters in the main land are col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621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2600" y="3886200"/>
            <a:ext cx="93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Natural hazards in Spain is that there may be no rain at times.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6172200" y="4626000"/>
            <a:ext cx="781200" cy="584280"/>
          </a:xfrm>
          <a:prstGeom prst="rect">
            <a:avLst/>
          </a:prstGeom>
          <a:ln w="0">
            <a:noFill/>
          </a:ln>
        </p:spPr>
      </p:pic>
      <p:pic>
        <p:nvPicPr>
          <p:cNvPr id="1209" name="" descr=""/>
          <p:cNvPicPr/>
          <p:nvPr/>
        </p:nvPicPr>
        <p:blipFill>
          <a:blip r:embed="rId2"/>
          <a:stretch/>
        </p:blipFill>
        <p:spPr>
          <a:xfrm>
            <a:off x="2190600" y="1647720"/>
            <a:ext cx="4743720" cy="3548160"/>
          </a:xfrm>
          <a:prstGeom prst="rect">
            <a:avLst/>
          </a:prstGeom>
          <a:ln w="0">
            <a:noFill/>
          </a:ln>
        </p:spPr>
      </p:pic>
      <p:pic>
        <p:nvPicPr>
          <p:cNvPr id="1210" name="" descr=""/>
          <p:cNvPicPr/>
          <p:nvPr/>
        </p:nvPicPr>
        <p:blipFill>
          <a:blip r:embed="rId3"/>
          <a:stretch/>
        </p:blipFill>
        <p:spPr>
          <a:xfrm>
            <a:off x="2190600" y="1647720"/>
            <a:ext cx="4762800" cy="3562560"/>
          </a:xfrm>
          <a:prstGeom prst="rect">
            <a:avLst/>
          </a:prstGeom>
          <a:ln w="0">
            <a:noFill/>
          </a:ln>
        </p:spPr>
      </p:pic>
      <p:pic>
        <p:nvPicPr>
          <p:cNvPr id="1211" name="" descr="Val d'Aran Salardu depuis Unha by BB33FR."/>
          <p:cNvPicPr/>
          <p:nvPr/>
        </p:nvPicPr>
        <p:blipFill>
          <a:blip r:embed="rId4"/>
          <a:stretch/>
        </p:blipFill>
        <p:spPr>
          <a:xfrm>
            <a:off x="4419720" y="13716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212" name="" descr=""/>
          <p:cNvPicPr/>
          <p:nvPr/>
        </p:nvPicPr>
        <p:blipFill>
          <a:blip r:embed="rId5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3" name="" descr=""/>
          <p:cNvPicPr/>
          <p:nvPr/>
        </p:nvPicPr>
        <p:blipFill>
          <a:blip r:embed="rId6"/>
          <a:stretch/>
        </p:blipFill>
        <p:spPr>
          <a:xfrm>
            <a:off x="2190600" y="1833480"/>
            <a:ext cx="4762800" cy="319104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7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8"/>
          <a:stretch/>
        </p:blipFill>
        <p:spPr>
          <a:xfrm>
            <a:off x="342900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16" name="" descr="Santa Cristina Beach / Platja de Santa Cristina (I) by . SantiMB 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64160" y="0"/>
            <a:ext cx="2679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ighboring Countri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uthwestern Europe; bordering Bay of Biscay (South end) , southwest of France, Mediterranean sea, and East side of Portuga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ney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, May 2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anadian Dollars = 15.96406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Euro (EUR) = 39.15045 Canadian Dollar (CA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6:29Z</dcterms:created>
  <dc:creator>ICt Department</dc:creator>
  <dc:description/>
  <dc:language>en-US</dc:language>
  <cp:lastModifiedBy>ICt Department</cp:lastModifiedBy>
  <dcterms:modified xsi:type="dcterms:W3CDTF">2009-05-26T16:10:57Z</dcterms:modified>
  <cp:revision>5</cp:revision>
  <dc:subject/>
  <dc:title>Slide 1</dc:title>
</cp:coreProperties>
</file>