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2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5873-7421-445B-A968-68E80AD0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AFF-35A1-4C98-B148-F0995E8F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E6448-0F52-4689-AB58-CDCD3BB2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3293B-3F05-459D-ADEF-3D71AA20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61D29-8DB1-4631-9BAD-F44142C5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74E38-E9D2-42B1-A31B-3A5B9510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B235D-8F39-47C8-8925-EE867E08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08384-3A3A-451C-926F-BB50BC9E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2E014-90B6-4F38-B97B-5B3650A4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784DF-C67F-45B3-9C11-39E7389F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E4CCC-0AD5-4F4F-B846-0AACEC8B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BDD6EB-85AE-47DF-8B3C-8398B217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DD8-8583-4C7D-A9C1-77E8DC69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F3BAB3-2E2F-4BE0-8F4E-FCFDADCA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AC2C44-0099-4E18-8AB5-DB02C53F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A5DA5C-DFE6-4163-B43A-8BCE9290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EEF5FD-E7E0-47BD-AB88-DBB81644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3FE9B6-EF43-4B7C-A880-8AE22032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B06757-79D4-4B60-9D78-54BE9D68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DDA56C-2369-4678-9341-BD50DDE1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E2EE9B-498B-49E1-9134-0BFA18CA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0C4C71-804D-4E5E-A1A1-6858AC54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64EBE0-3F97-46FD-8174-21A1E457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34E-4F48-498B-9CE6-909541FA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42F607-6AC8-428B-98DD-9C6D41C5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38E75-F10C-4875-A955-74AAC236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BC5BF-126D-4890-8485-E8FDE0E4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0239B-628D-45B7-9161-ECAAAA5D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DE226-A501-48D9-8A0F-0164E71D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30782-A21D-48A7-A928-18739A15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C63EC-CE20-42BA-942E-044DA867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1C843-41D0-4E3F-A051-3C3D199A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1FD96-599E-4285-A0A9-097A23F1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6F551-14C6-4F97-9210-C1E9BC7D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C4B8-DFCA-490F-AD58-5DFDFB28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147FD-B9F8-4947-A699-232AA9BF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56896-A257-4E57-A120-C88C4845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9AC6A-058C-4D65-9588-3E8F9534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A3C22-CDF8-4280-A839-6ADAD756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9C27C-8BEC-492A-936F-A464AA01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1A5CB-6FFF-4851-8B4E-9F08274D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9EBDB-5F30-4C0A-ABAE-549F31FA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DC364-FBBE-4F87-A6D0-F710BF24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1E235-32CB-49A1-99DD-A505FC71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62D73-F294-4113-9839-7480594F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9411-3066-4A4E-9BBF-DDB3E5CB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51F4E-AE49-4342-81EC-19C808B2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94C46-57E1-4A77-847D-35D831DF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7C0D9-406E-41C8-A55D-5CB17A43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36FFC-7F3E-4268-8109-122BE4EB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707B5-CBFA-4303-951F-0B689621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E1DDE-E4A8-4FCA-A0F2-2DB3E39E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C63BB-EA06-4DD0-910B-0CBA08B3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45BD5-7A1E-47AC-B283-161F17A9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495BC-F884-42F9-B629-207331F4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953FB-E5F8-41C6-AAF9-8B2857F6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B5D7-E14D-496C-A709-D29AC2AA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5E136-CAD4-4EF5-BBF4-BBAAB6D3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04E76-325D-41AF-A06D-34BDEC59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C3CF74-CBC2-478C-8ECC-79AD90C0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2CD30-388F-4B2D-80BF-2C424992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70CA5-15B0-4CC9-928F-64A97F9E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96F91-D361-496F-8208-A2EA9573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E9CD2-B77C-452C-AEA0-1B389F45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E8A59-C8A2-4BE9-8681-AAA1A25C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C1B8B7-79AD-44A1-BF06-7090549D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F26396-9D32-4EE9-B2F1-3A7788D4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8DFF-687F-4D2D-9D97-AD058290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AF47A-6D93-4CF0-BA8B-C4396B36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7301F-69DD-4301-8E14-9DDB5B17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59AC2-CEBA-4371-A2C9-4DC6EE7E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558C0-E6D4-4823-9AD6-15F122D4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287DB-8F92-47BF-B30A-751E5ABE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ABDDA-A4D2-4E71-A2A1-122D3DBE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EC557-A3E5-45F1-A7AC-6D5DA112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9323F-5BDE-451B-8530-AE40C25F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AB4EC-6AF8-4F3E-A2EB-B3B42E73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EB91DE-70C8-4481-9FD9-55CD7F6D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8BC9-8570-432C-9C05-5DB9EC0D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210FCF-0DF4-4832-9B01-4F551257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F3AC0-566C-448A-BD39-F745AA16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48B55A-7330-4C03-B557-464EE9C5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532B93-E4D4-4E6C-A5EB-BE4E055D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43F23-EB67-4964-B813-4FB18730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8CAC33-1DFD-4A10-8034-FB1CACD0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74E86D-0071-4701-BD28-00CF1169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833213-A0E8-4148-A769-64D463F3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D9036-DB5E-41D5-86F9-FEDE999E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B97DAB-B4AF-4844-A048-57F6CC84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F8B6-EBF3-4B06-86D3-D59268E4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A4259-F8A8-43AC-A7D8-80B6C532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53459B-DBAC-4169-AFB9-71626F83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0B458B-555A-43CC-A0CC-8CC4F26B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4349F-D1AA-4FFF-A42A-74D3E154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D94229-37A9-4FF8-82CD-293C226E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724B87-0E6B-4741-A87D-55690F67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01A3A-E314-485D-8074-E8B9EFE8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745770-D491-413A-9519-BC74B4B6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404997-50FD-4282-9BC3-7025563F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DA2A1-5435-4CDC-B3A9-3067C10D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0647-B2F2-4644-A443-E51E0BBA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649DC-2136-4A47-A86A-011FCDCE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BF0E47-7DAB-4666-AB7B-8A22E6AE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1A7BE0-3146-4EE4-84A5-93F5E292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1AEE068-0C05-4DC2-ADFA-A5330F76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F42E612-F3DD-452D-AAD5-16A0DF66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7E552E4-920B-49EA-91DD-9E8B5717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36132C-D6C3-48F2-B9CF-C76678AE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947101-B350-46EE-9D68-1C7A3C8B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157F34-E930-4301-B00F-03FD4CAC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23C25F-45B5-48E9-A2C5-1C4E7B4A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291-A68A-4550-A49F-94C65CDC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77B1-C220-453E-8711-53237631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645274-DBB0-4A82-8B1D-ABD58933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469E3C-8012-422E-AE59-C734FA97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E48EF7B-A53F-4FCE-9A51-D73C3911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D9D522-6B38-46D6-8CFF-CCF2067B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3511A67-A542-4B9F-B974-11FF467A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EC4949-B031-4F48-A13B-1D215933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5F43EB-FBF0-47D0-983A-EFD95F94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E82CBC-CF10-4AD7-9D34-8B094495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9F3992-345D-4EA9-B76D-E171E2E1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560850-983B-40DB-A944-6D186624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361E-700B-4A8A-AB43-0E5DFC20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E8507-F59A-4249-BF0F-91B7C621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947A0D-FA7D-4438-87C8-6EE90B2C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F5DAD3-41EB-4FD7-BCF2-50C91692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C215F9-4C48-4DAE-8F73-C66634B5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F675EB-B94B-4A99-8097-1F96F745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A430C1-390F-41D6-8EA3-B785A852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9D52EC-FD70-4430-B042-451F4559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D5AA42-610D-4D5D-8FC0-FA192109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247D2A-9704-4EF8-9F1B-B2D7B0FA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76B9C2-60A9-4FBB-997D-1F9CA3AE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3D9B-83A2-4CBE-95AD-C151BD1E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F6B3C2-28B4-494F-9AE1-0F65AAA1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D31E93-48D1-4F68-8E71-67F2BB87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796092-A367-4AD6-907E-B9A388FF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75C186-8C21-404C-9F9F-25A3E565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A1084E-3CBF-43DF-8897-A99E08C6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A36E3B-28F6-4562-9020-B176B616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540FC9-A7BB-43B7-A033-112374B4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0CCA5E-70B5-402B-A790-C84C8C91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09058A-3968-45E7-801C-431E88B1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C1AD-3377-42F0-9EE1-9E3F3978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CED9-9117-4A7C-AE69-4D24D21F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FA8B1-12FE-4C82-8B94-6807057F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54B69-3925-4CEF-BC3D-24D2BE1F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4E0D6-B149-4E7A-A1EB-58CFC118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A1146-A417-42BA-9451-B41D16A1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721C9-5116-4BF3-ADE9-EFB153AC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384-F454-4C4C-9927-B5D6E73D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2D257-7F8D-4DAB-B70F-1721F422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751BA-DDE4-4523-9063-2B0CFBF5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B61D4-DF4A-41C8-A2F8-282DDAF8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3851-16DF-45D4-9104-5ADB5B91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3964F-12A8-41F8-8265-0010236E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4E82-185E-4363-A234-3340A4E9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86B11-020F-4FF5-AB49-1CB39476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DEE0E-D2F1-4D00-90E9-ECDE53B2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A1CB-9D74-4BD1-9F52-6B17CBCD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786D1-F9D7-46CA-9A00-012F504B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D96-37C4-429D-8A23-1660CEE2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5D1A6-31DF-4C32-840F-3DC7763B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1156B-C42D-4CF1-B5F0-AB7E3CDC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FA6E2-CC0C-407D-A3EA-B70420E5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CC259-ADA9-4D96-A8A2-8650C96A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07C0A-DE47-41F1-B0E3-D834B483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AFF80-B106-4673-8C83-150A75E4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3E8F9-E4C6-4CD0-B87A-143C72BB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104AE-80F9-4673-9568-6E15920B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74C59-935D-435E-94DD-EEB8385D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E2F46-F98F-4A96-A8FA-DA2C15A3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400-DF40-442C-95F0-15A56224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E8EDC-2E63-4E86-A5F9-A9A4B571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D0CF4-9EC7-408D-B90F-485589C3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09D3D-3769-4433-94DD-3A3AD3F5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2302F-E0DF-43F8-A971-4383312E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FC4D1-7027-4C10-9F86-9A6A2590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980B3-4221-40AE-8704-717CE19B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834DC-9B7A-43B9-98B5-66C52D9B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BA4B1-5CAF-4D43-88F7-0334762C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94CA1-12E3-4DD9-88E9-F2A1F32A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D05D6-5B25-4B79-ADBE-1FC0943C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4B2-F4EA-4ACD-BCE1-BBEC10F9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9BBDC-52C4-46E4-ADA5-46F9D415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6C938-A3B2-4513-9827-F15A7FA9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24906-484C-4EC5-B3EB-A8970C78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2A5B3-A77B-4740-B0B1-8D0CD2FE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4F6FE-9873-4836-BEC3-64BD8014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69EE5-822E-4B3F-BA47-14D39A5A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A5EA4-00B2-4691-84FA-1166DFA8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1F0AF-72DC-4E22-8B74-83EDE443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6C8AF-DFD0-479D-ACEA-28532768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CE833-1266-4C63-B990-CDB47643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764-266F-457E-AD63-54AFC48D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B0F03-4471-40F6-973D-3F446624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34DC6-F43C-4816-9F94-6C60DA2D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3C3DE-09CF-4E2A-B70A-DA22DFEA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EF660-33DF-4C9B-BB1C-A21C229B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78B09-D8BE-42FA-8451-7FC61B64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671330-88DD-462D-8CC7-6B3235D9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47019-0C73-47E1-8DAE-F661C3BB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CF33B1-2D72-4853-B583-7FA52E7D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BD6A4-B77D-4364-82B8-A2F9F351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8C7574-1C6D-45CD-A4F2-8F65C889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7E2-92D5-44F3-87DC-7257EF4C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E550B6-40A7-4DB8-992F-D4EBA05D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C709B8-5C32-4668-8D93-E2DC8AFA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995BA-FCFF-4C57-B0BF-623D460B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EB1897-A0EF-4AC4-9430-2BE796BD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AB5373-5FAD-4CC6-9A0C-FB5435E9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CC0B5-DA59-4437-88E1-0AD81BA1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96269-79EF-4EE6-84EB-0DAD74F1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2C5DB-9BAB-4EED-A460-5366FB05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A30C5-BD0C-404C-BEAC-62E62EB3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19BE1-5F67-445B-A3C2-01471897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BB3-A2B2-4C88-8442-25AD8B72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45BB6-242D-422A-BCFC-BDA5E0B3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CCDBD-3944-47E2-B8E5-351961A1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A0383-1B99-42A1-A7D3-303574EF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7E93D-862A-4553-8690-7D5307CC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B050C-6694-43CF-AEA2-902C8300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E86FE-5DB8-4299-92DC-97B285E6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7D4F3-8B75-473F-BCDD-E11615A1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5FEA8-2F91-4E69-82E8-E13E3616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BD026-C1F5-4656-8F41-06882B14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A5D5F-D2F8-4143-88DD-102B6EC3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81E0-33B6-4A61-9CBB-24A839D9AC6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9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0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0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1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DFB3-10AD-475C-83E8-6A87A7B361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6E07-54C3-4885-A327-E08061FE2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EBEC-EBB8-4F79-A5D9-144ED1B27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FE1A-5F40-4FD8-A379-537DF66303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8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213D-6484-4735-A471-B6EF41EB55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5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61C1-8D91-4B68-B612-3E94D077A7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70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4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ftr" idx="4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A77B-9051-42B4-978D-93E9D046C1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1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D65C-37E0-4DD7-8193-AACE96ABD3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7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A41C-EA34-4978-A74A-5AC8DBDD5F6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3AC0-E918-406E-86C9-300B50B1E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3E67-AC40-48DB-A9D4-376C45ADCDE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5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B448-D7F0-48A6-B913-5ED15FFA28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9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AF0D-A1CE-4FCD-9A93-8C5EE00AE0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4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852B-F7B3-4BA8-B3B1-101DBF38F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9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C280-A242-403E-B286-60A8B1AB6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0564-22F7-4CDD-90EC-A3BE36F868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4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8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CDD8-6579-4624-A3E6-6A4129A111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4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4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4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3248-8380-43D1-A9A5-16B02B7FE2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9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hyperlink" Target="http://www.flickr.com/photos/smb_flickr/953924495/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1066680" y="5335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4419720"/>
            <a:ext cx="6400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200" spc="-1" strike="noStrike">
                <a:solidFill>
                  <a:srgbClr val="ffcc00"/>
                </a:solidFill>
                <a:latin typeface="French Script MT"/>
              </a:rPr>
              <a:t>Spain</a:t>
            </a:r>
            <a:endParaRPr b="0" lang="en-US" sz="14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ostumes of Spain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257800" cy="4495680"/>
          </a:xfrm>
          <a:prstGeom prst="rect">
            <a:avLst/>
          </a:prstGeom>
          <a:ln w="0">
            <a:noFill/>
          </a:ln>
        </p:spPr>
      </p:pic>
      <p:pic>
        <p:nvPicPr>
          <p:cNvPr id="1226" name="" descr=""/>
          <p:cNvPicPr/>
          <p:nvPr/>
        </p:nvPicPr>
        <p:blipFill>
          <a:blip r:embed="rId2"/>
          <a:stretch/>
        </p:blipFill>
        <p:spPr>
          <a:xfrm>
            <a:off x="5343480" y="2133720"/>
            <a:ext cx="3800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diós amig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5638680" cy="4343400"/>
          </a:xfrm>
          <a:prstGeom prst="rect">
            <a:avLst/>
          </a:prstGeom>
          <a:ln w="0">
            <a:noFill/>
          </a:ln>
        </p:spPr>
      </p:pic>
      <p:sp>
        <p:nvSpPr>
          <p:cNvPr id="1230" name="SMARTPenAnnotation0"/>
          <p:cNvSpPr/>
          <p:nvPr/>
        </p:nvSpPr>
        <p:spPr>
          <a:xfrm>
            <a:off x="6278400" y="3814920"/>
            <a:ext cx="17640" cy="52200"/>
          </a:xfrm>
          <a:custGeom>
            <a:avLst/>
            <a:gdLst/>
            <a:ahLst/>
            <a:rect l="l" t="t" r="r" b="b"/>
            <a:pathLst>
              <a:path w="11" h="33">
                <a:moveTo>
                  <a:pt x="10" y="22"/>
                </a:moveTo>
                <a:lnTo>
                  <a:pt x="5" y="27"/>
                </a:lnTo>
                <a:lnTo>
                  <a:pt x="5" y="27"/>
                </a:lnTo>
                <a:lnTo>
                  <a:pt x="5" y="29"/>
                </a:lnTo>
                <a:lnTo>
                  <a:pt x="5" y="30"/>
                </a:lnTo>
                <a:lnTo>
                  <a:pt x="4" y="31"/>
                </a:lnTo>
                <a:lnTo>
                  <a:pt x="3" y="31"/>
                </a:lnTo>
                <a:lnTo>
                  <a:pt x="0" y="32"/>
                </a:lnTo>
                <a:lnTo>
                  <a:pt x="0" y="32"/>
                </a:lnTo>
                <a:lnTo>
                  <a:pt x="0" y="31"/>
                </a:lnTo>
                <a:lnTo>
                  <a:pt x="0" y="27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6"/>
                </a:lnTo>
                <a:lnTo>
                  <a:pt x="4" y="25"/>
                </a:lnTo>
                <a:lnTo>
                  <a:pt x="5" y="22"/>
                </a:lnTo>
                <a:lnTo>
                  <a:pt x="5" y="22"/>
                </a:lnTo>
                <a:lnTo>
                  <a:pt x="5" y="20"/>
                </a:lnTo>
                <a:lnTo>
                  <a:pt x="5" y="16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1" name="SMARTPenAnnotation1"/>
          <p:cNvSpPr/>
          <p:nvPr/>
        </p:nvSpPr>
        <p:spPr>
          <a:xfrm>
            <a:off x="6397560" y="384984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6" y="10"/>
                </a:moveTo>
                <a:lnTo>
                  <a:pt x="6" y="15"/>
                </a:lnTo>
                <a:lnTo>
                  <a:pt x="5" y="15"/>
                </a:lnTo>
                <a:lnTo>
                  <a:pt x="4" y="15"/>
                </a:lnTo>
                <a:lnTo>
                  <a:pt x="0" y="16"/>
                </a:lnTo>
                <a:lnTo>
                  <a:pt x="0" y="15"/>
                </a:lnTo>
                <a:lnTo>
                  <a:pt x="0" y="14"/>
                </a:lnTo>
                <a:lnTo>
                  <a:pt x="0" y="11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sp-map" descr="Map of Spain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sp>
        <p:nvSpPr>
          <p:cNvPr id="1186" name=""/>
          <p:cNvSpPr/>
          <p:nvPr/>
        </p:nvSpPr>
        <p:spPr>
          <a:xfrm>
            <a:off x="0" y="4038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40 00 N, 400 W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capital city is Madrid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8" name="sp-map" descr="Map of Spain"/>
          <p:cNvPicPr/>
          <p:nvPr/>
        </p:nvPicPr>
        <p:blipFill>
          <a:blip r:embed="rId1"/>
          <a:stretch/>
        </p:blipFill>
        <p:spPr>
          <a:xfrm>
            <a:off x="0" y="1066680"/>
            <a:ext cx="6400800" cy="579132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608120" y="3367080"/>
            <a:ext cx="1401840" cy="642960"/>
          </a:xfrm>
          <a:custGeom>
            <a:avLst/>
            <a:gdLst/>
            <a:ahLst/>
            <a:rect l="l" t="t" r="r" b="b"/>
            <a:pathLst>
              <a:path w="3895" h="1787">
                <a:moveTo>
                  <a:pt x="4465" y="10889"/>
                </a:moveTo>
                <a:cubicBezTo>
                  <a:pt x="4777" y="10889"/>
                  <a:pt x="5111" y="10881"/>
                  <a:pt x="5407" y="10914"/>
                </a:cubicBezTo>
                <a:cubicBezTo>
                  <a:pt x="5660" y="10942"/>
                  <a:pt x="5928" y="10914"/>
                  <a:pt x="6176" y="10939"/>
                </a:cubicBezTo>
                <a:cubicBezTo>
                  <a:pt x="6368" y="10958"/>
                  <a:pt x="6561" y="10922"/>
                  <a:pt x="6747" y="10964"/>
                </a:cubicBezTo>
                <a:cubicBezTo>
                  <a:pt x="6782" y="10972"/>
                  <a:pt x="6801" y="10981"/>
                  <a:pt x="6846" y="10988"/>
                </a:cubicBezTo>
                <a:cubicBezTo>
                  <a:pt x="6855" y="10991"/>
                  <a:pt x="6935" y="11003"/>
                  <a:pt x="6970" y="11013"/>
                </a:cubicBezTo>
                <a:cubicBezTo>
                  <a:pt x="7023" y="11028"/>
                  <a:pt x="7056" y="11036"/>
                  <a:pt x="7119" y="11038"/>
                </a:cubicBezTo>
                <a:cubicBezTo>
                  <a:pt x="7213" y="11041"/>
                  <a:pt x="7313" y="11053"/>
                  <a:pt x="7392" y="11063"/>
                </a:cubicBezTo>
                <a:cubicBezTo>
                  <a:pt x="7583" y="11087"/>
                  <a:pt x="7794" y="11063"/>
                  <a:pt x="7987" y="11063"/>
                </a:cubicBezTo>
                <a:cubicBezTo>
                  <a:pt x="8026" y="11101"/>
                  <a:pt x="7961" y="11098"/>
                  <a:pt x="8037" y="11112"/>
                </a:cubicBezTo>
                <a:cubicBezTo>
                  <a:pt x="8075" y="11119"/>
                  <a:pt x="8122" y="11112"/>
                  <a:pt x="8161" y="11112"/>
                </a:cubicBezTo>
                <a:cubicBezTo>
                  <a:pt x="8163" y="11113"/>
                  <a:pt x="8193" y="11129"/>
                  <a:pt x="8210" y="11137"/>
                </a:cubicBezTo>
              </a:path>
              <a:path w="3895" h="1787">
                <a:moveTo>
                  <a:pt x="4490" y="9401"/>
                </a:moveTo>
                <a:cubicBezTo>
                  <a:pt x="4527" y="9392"/>
                  <a:pt x="4554" y="9384"/>
                  <a:pt x="4589" y="9376"/>
                </a:cubicBezTo>
                <a:cubicBezTo>
                  <a:pt x="4671" y="9357"/>
                  <a:pt x="4752" y="9354"/>
                  <a:pt x="4837" y="9351"/>
                </a:cubicBezTo>
                <a:cubicBezTo>
                  <a:pt x="5206" y="9340"/>
                  <a:pt x="5595" y="9336"/>
                  <a:pt x="5953" y="9376"/>
                </a:cubicBezTo>
                <a:cubicBezTo>
                  <a:pt x="6165" y="9400"/>
                  <a:pt x="6399" y="9379"/>
                  <a:pt x="6598" y="9401"/>
                </a:cubicBezTo>
                <a:cubicBezTo>
                  <a:pt x="6881" y="9432"/>
                  <a:pt x="7180" y="9401"/>
                  <a:pt x="7466" y="9401"/>
                </a:cubicBezTo>
                <a:cubicBezTo>
                  <a:pt x="7498" y="9422"/>
                  <a:pt x="7469" y="9430"/>
                  <a:pt x="7541" y="9451"/>
                </a:cubicBezTo>
                <a:cubicBezTo>
                  <a:pt x="7598" y="9467"/>
                  <a:pt x="7659" y="9479"/>
                  <a:pt x="7714" y="9500"/>
                </a:cubicBezTo>
                <a:cubicBezTo>
                  <a:pt x="7774" y="9523"/>
                  <a:pt x="7836" y="9553"/>
                  <a:pt x="7888" y="9575"/>
                </a:cubicBezTo>
                <a:cubicBezTo>
                  <a:pt x="7935" y="9595"/>
                  <a:pt x="7937" y="9593"/>
                  <a:pt x="7987" y="9599"/>
                </a:cubicBezTo>
                <a:cubicBezTo>
                  <a:pt x="8050" y="9606"/>
                  <a:pt x="8136" y="9578"/>
                  <a:pt x="8161" y="9575"/>
                </a:cubicBezTo>
                <a:cubicBezTo>
                  <a:pt x="8225" y="9567"/>
                  <a:pt x="8295" y="9575"/>
                  <a:pt x="8359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589040" y="3463920"/>
            <a:ext cx="1800" cy="358920"/>
          </a:xfrm>
          <a:custGeom>
            <a:avLst/>
            <a:gdLst/>
            <a:ahLst/>
            <a:rect l="l" t="t" r="r" b="b"/>
            <a:pathLst>
              <a:path w="1" h="993">
                <a:moveTo>
                  <a:pt x="4415" y="9624"/>
                </a:moveTo>
                <a:cubicBezTo>
                  <a:pt x="4415" y="9955"/>
                  <a:pt x="4415" y="10285"/>
                  <a:pt x="4415" y="1061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946240" y="3510000"/>
            <a:ext cx="36720" cy="446040"/>
          </a:xfrm>
          <a:custGeom>
            <a:avLst/>
            <a:gdLst/>
            <a:ahLst/>
            <a:rect l="l" t="t" r="r" b="b"/>
            <a:pathLst>
              <a:path w="100" h="1241">
                <a:moveTo>
                  <a:pt x="8285" y="9748"/>
                </a:moveTo>
                <a:cubicBezTo>
                  <a:pt x="8285" y="9951"/>
                  <a:pt x="8321" y="10210"/>
                  <a:pt x="8260" y="10393"/>
                </a:cubicBezTo>
                <a:cubicBezTo>
                  <a:pt x="8251" y="10419"/>
                  <a:pt x="8260" y="10464"/>
                  <a:pt x="8260" y="10492"/>
                </a:cubicBezTo>
                <a:cubicBezTo>
                  <a:pt x="8222" y="10505"/>
                  <a:pt x="8235" y="10522"/>
                  <a:pt x="8235" y="10567"/>
                </a:cubicBezTo>
                <a:cubicBezTo>
                  <a:pt x="8235" y="10623"/>
                  <a:pt x="8225" y="10645"/>
                  <a:pt x="8210" y="10691"/>
                </a:cubicBezTo>
                <a:cubicBezTo>
                  <a:pt x="8190" y="10750"/>
                  <a:pt x="8210" y="10851"/>
                  <a:pt x="8210" y="10914"/>
                </a:cubicBezTo>
                <a:cubicBezTo>
                  <a:pt x="8174" y="10927"/>
                  <a:pt x="8186" y="10944"/>
                  <a:pt x="8186" y="109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57984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-92160" y="3549600"/>
            <a:ext cx="588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0" y="35812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re are  40,525,002 people In Spain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Out of the total population of  Spain  98.7% of people  can read and Write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96" name="" descr=""/>
          <p:cNvPicPr/>
          <p:nvPr/>
        </p:nvPicPr>
        <p:blipFill>
          <a:blip r:embed="rId2"/>
          <a:stretch/>
        </p:blipFill>
        <p:spPr>
          <a:xfrm>
            <a:off x="4952880" y="3619440"/>
            <a:ext cx="2286000" cy="3238560"/>
          </a:xfrm>
          <a:prstGeom prst="rect">
            <a:avLst/>
          </a:prstGeom>
          <a:ln w="0">
            <a:noFill/>
          </a:ln>
        </p:spPr>
      </p:pic>
      <p:sp>
        <p:nvSpPr>
          <p:cNvPr id="1197" name=""/>
          <p:cNvSpPr/>
          <p:nvPr/>
        </p:nvSpPr>
        <p:spPr>
          <a:xfrm>
            <a:off x="4876920" y="7621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 type of government that Spain has is Parliamentary monarchy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3"/>
          <a:stretch/>
        </p:blipFill>
        <p:spPr>
          <a:xfrm>
            <a:off x="6419880" y="2209680"/>
            <a:ext cx="27241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errai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in’s land is flat and have small hills and Pyrenees in the north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5715000" cy="320040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3"/>
          <a:stretch/>
        </p:blipFill>
        <p:spPr>
          <a:xfrm>
            <a:off x="5410080" y="2514600"/>
            <a:ext cx="3733920" cy="296244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4648320" y="29718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t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 summers in the main land. Mostly cloudy along the coast. Winters in the main land are col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621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2600" y="3886200"/>
            <a:ext cx="93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 Natural hazards in Spain is that there may be no rain at times.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08" name="" descr=""/>
          <p:cNvPicPr/>
          <p:nvPr/>
        </p:nvPicPr>
        <p:blipFill>
          <a:blip r:embed="rId1"/>
          <a:stretch/>
        </p:blipFill>
        <p:spPr>
          <a:xfrm>
            <a:off x="6172200" y="4626000"/>
            <a:ext cx="781200" cy="584280"/>
          </a:xfrm>
          <a:prstGeom prst="rect">
            <a:avLst/>
          </a:prstGeom>
          <a:ln w="0">
            <a:noFill/>
          </a:ln>
        </p:spPr>
      </p:pic>
      <p:pic>
        <p:nvPicPr>
          <p:cNvPr id="1209" name="" descr=""/>
          <p:cNvPicPr/>
          <p:nvPr/>
        </p:nvPicPr>
        <p:blipFill>
          <a:blip r:embed="rId2"/>
          <a:stretch/>
        </p:blipFill>
        <p:spPr>
          <a:xfrm>
            <a:off x="2190600" y="1647720"/>
            <a:ext cx="4743720" cy="3548160"/>
          </a:xfrm>
          <a:prstGeom prst="rect">
            <a:avLst/>
          </a:prstGeom>
          <a:ln w="0">
            <a:noFill/>
          </a:ln>
        </p:spPr>
      </p:pic>
      <p:pic>
        <p:nvPicPr>
          <p:cNvPr id="1210" name="" descr=""/>
          <p:cNvPicPr/>
          <p:nvPr/>
        </p:nvPicPr>
        <p:blipFill>
          <a:blip r:embed="rId3"/>
          <a:stretch/>
        </p:blipFill>
        <p:spPr>
          <a:xfrm>
            <a:off x="2190600" y="1647720"/>
            <a:ext cx="4762800" cy="356256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Val d'Aran Salardu depuis Unha by BB33FR."/>
          <p:cNvPicPr/>
          <p:nvPr/>
        </p:nvPicPr>
        <p:blipFill>
          <a:blip r:embed="rId4"/>
          <a:stretch/>
        </p:blipFill>
        <p:spPr>
          <a:xfrm>
            <a:off x="4419720" y="13716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5"/>
          <a:stretch/>
        </p:blipFill>
        <p:spPr>
          <a:xfrm>
            <a:off x="2190600" y="1833480"/>
            <a:ext cx="4762800" cy="319104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/>
          <p:cNvPicPr/>
          <p:nvPr/>
        </p:nvPicPr>
        <p:blipFill>
          <a:blip r:embed="rId6"/>
          <a:stretch/>
        </p:blipFill>
        <p:spPr>
          <a:xfrm>
            <a:off x="2190600" y="1833480"/>
            <a:ext cx="4762800" cy="319104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7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8"/>
          <a:stretch/>
        </p:blipFill>
        <p:spPr>
          <a:xfrm>
            <a:off x="342900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Santa Cristina Beach / Platja de Santa Cristina (I) by . SantiMB .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64160" y="0"/>
            <a:ext cx="2679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ighboring Countri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outhwestern Europe; bordering Bay of Biscay (South end) , southwest of France, Mediterranean sea, and East side of Portugal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"/>
          <a:stretch/>
        </p:blipFill>
        <p:spPr>
          <a:xfrm>
            <a:off x="3505320" y="3124080"/>
            <a:ext cx="3809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ney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, May 2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Canadian Dollars = 15.96406 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Euro (EUR) = 39.15045 Canadian Dollar (CA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6:29Z</dcterms:created>
  <dc:creator>ICt Department</dc:creator>
  <dc:description/>
  <dc:language>en-US</dc:language>
  <cp:lastModifiedBy>ICt Department</cp:lastModifiedBy>
  <dcterms:modified xsi:type="dcterms:W3CDTF">2009-05-26T16:10:57Z</dcterms:modified>
  <cp:revision>5</cp:revision>
  <dc:subject/>
  <dc:title>Slide 1</dc:title>
</cp:coreProperties>
</file>