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2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7A8A-A98D-4F5F-8B84-0D824EA8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DBB6-E9B6-4FC2-87AB-90B1EC66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7CD3C-6C75-4648-BC9C-4108556C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72E5E-C961-4F19-92DF-8F378D2B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5E7D1-FEDF-4EA1-AA3C-6903648C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3E1EE-E67C-4FB4-87F5-9F9514B8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1A29C-063B-49FD-8C1E-AFE917B7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076C5-E3B0-4955-8D88-34AA1396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6325F-88AD-455E-A6E2-2A28B16E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E26AD-BEFF-4FB1-A35A-9865540AC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49D22-316A-4905-B966-FB5AADB2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17E5F2-02EF-4ADE-8ABB-897765A9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CB5-BF68-4A18-9798-D7CC725B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4F4360-EE23-43B1-BA73-EE46089C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3178C7-C105-4D9D-8C13-5D691EB3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9A6DEB-92DD-44B6-8259-EADABD93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F56A7C-82A1-4E29-B10B-62AACEC7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7B800F-D409-4F6E-BFAA-6AB1F976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25C53A-6C8F-4BCD-B705-D2254ACE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6AD385-7621-49BB-8857-1FE8D9C0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18B154-93C6-42BF-927E-0D5C6DA9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E8ACFF-28BC-4B04-A02C-35A01E72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287983-6534-4119-B737-4113CDE3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1E1-5F03-453E-9CC7-F24067A5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D362D0-C3A2-491F-B537-4991D53E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B4590-71F9-4757-9FAD-794E4B96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0EE6E-DB9C-4D49-828C-87E03BAD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91B70-8886-4924-94DD-0641F8A7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739F7-DFE0-41C6-BD49-0DDF270D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65790-8167-4FC7-9687-4485FF69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A8590-CABF-4628-96B8-73750900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4F3E2-1969-4FA7-8CA0-FEC04417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E3ABE-BA25-4412-8CD4-3F5DA4D7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5553B-C68E-45FD-9DF3-81CAF0FC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B11F-DC57-4503-8FAE-B16BEE56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E2D3C-30B9-4643-9F03-D9BB03D3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B1074-953E-48D6-8D96-56467D9F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5FE70-E178-4BAC-88FC-15BB0CC2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F1908-1EB3-41DE-99DD-F6D8BA41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84DD7C-7020-4782-BC37-2BE07681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A1717-3132-490F-9A6A-23BFB324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EFEFF-687C-4290-AEE8-F0042503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437A3-5DB0-48AA-BAA8-703BBE47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58116-A4E2-4E94-A587-D1BF1B4A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89C47-5FC7-4ADC-86C2-B7F9A05D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06F0-16E4-431A-8445-8DE558A0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CADAC-17A6-4B7B-AFB2-1A7D018F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9F7D5-DCE8-4633-9FF9-F429A2A9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9DB6F-BD5D-4697-A902-0C6D4B5E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AA05E-6ECB-4BF8-8F0C-0F9604C2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401A0-F592-4A9E-A75D-36A01E7E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000B3E-61D8-4863-A6E5-DE844170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24E3BD-B174-420E-B4C7-9FE75CFA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5672E-027E-40FB-B19D-7C87B990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C116E-D2E5-452F-B132-63F8F3FA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CD9D6E-181A-40E5-933A-B68BE59A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FCA8-4E85-49FE-A68C-D7EFDD54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37647-F85A-4691-BB17-DF535EB0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7E2A0-F423-438A-8B60-BE8CF0BB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E5B96-3DC6-45B0-ABEC-F6E02F96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58C571-6A50-459E-8BCA-CC2E7F86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4A4C5-432F-4003-86EC-47346678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3AAAF-CA10-4FAA-873D-8EFDDAA3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04557-C5DC-4206-9CD8-B1B015AE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21914F-F8DE-45B3-B381-9B64F79A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A8E368-CC67-4AF3-A956-3C7E92B2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703434-8989-4268-A100-CA8B4AE8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5873-0ED9-4251-A8BC-84F66DA3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72FE83-96B6-4096-B7DA-F3CA91C6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560EAC-8068-46A8-93F5-E341EDA0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AFE360-6ACA-4D0A-8074-B4E16271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C5750A-32EC-486B-9F89-3FDFEF36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199C2C-C832-4F3A-AAE2-9D64C7E9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E20BEB-BD48-4156-98E4-B3A39A05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E1A119-580E-4A6A-B218-8DFE01C7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FCB506-7E32-4DF7-B6DC-69C02B2F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43B1CE-0CF8-43C1-9C22-850A5DBD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678FA6-D0BD-419D-B574-47FDF007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8654-B9F2-44C9-8934-CDD14625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AB7AB8-F78B-423C-BE68-81303559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9C839-9FF7-47FC-A249-3FA2A3FC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2FF60C-2A8E-4FD1-B51F-2C62E9F0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7D0CDE-D371-4280-A2DC-C4C6DD01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68C06D-FDD6-4316-8C2B-344E649F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466C07-C5BB-4F30-AE77-5EE79FA4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B8A32B-2C1F-436B-8A1E-8236CFF7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481011-721C-4946-B4A5-4CEF0A30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DD15B6-BBB0-49AF-93D8-BD3A516B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D26A34-0EE2-4A00-8836-C76C2664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6F2C-FAB4-4753-A03E-AC8B4390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283952-BEAB-44E1-8213-7F93FDC4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8645F0-D3FA-4566-91D3-3CDB1B16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F94F59-B60F-4937-903E-1705DAE0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A7F197-95B8-499E-9600-062E93DD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54FA58-7AF8-419A-95BF-DC3680CD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A6650D-BB6D-4841-9070-957E6314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4C9630-185D-4F67-B986-94FD4991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E34E63-3E36-4C5B-9E45-F932841E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6DFB87-4A69-414E-B328-6C1A867D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EF8D72-F2D0-474E-B7BA-CD3D7C2A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82BA-93E3-49F5-9131-962A3999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80FB22-1EE9-4051-B0EC-24405419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598961-4F68-44EB-BF06-B225C506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AC0589-79D4-42DE-8E45-13BCEF75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28CB931-70AB-45B5-8766-8F617B11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21784A1-6068-4A10-9C4F-7B45AA73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438FBE5-769A-4036-9F6B-0A23A786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B5FD1D0-A5AA-4949-A03F-9A6949F4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6737FB-D0AE-4CCA-A64E-9BF6E7ED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11EC1C1-5FB8-47E1-9694-DF8FC7BB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68DF2BD-5D04-40E7-AAB6-9699C524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EA2-49D3-452A-8BC2-9C719BFD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A7B4-8D92-4DD8-8301-C592662B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4DCA448-0ADC-405A-A369-F32EC130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1C4DB19-009D-41C4-9EA9-4121E0E2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F2BF55A-BD86-4EDF-BD11-D00162AD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2F9E174-6D19-4055-ABDD-2596D4D9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0CD722D-9C28-4254-BB9A-545E4F36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BDA2CD-5265-44DD-BB5B-6F0D3096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16C852-32A4-41DB-AA74-46CC58F8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82FF07-EB6C-4B6F-A17B-4E322ECC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C44D37-093A-494A-9FD9-3B5EF0AB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D7D5BA-52AA-4486-BFB9-41BB02FA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8D4A-AB35-4226-8BF8-3E0FE852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57BD3E-29D8-4F26-A290-5E68FB4C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4122DC-5B32-4986-A9AC-FA87A69A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34B883-ED63-4D7B-9EBC-64D006EB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2B52C1-A791-4A0C-AEF3-7C9A7ACA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2E28E7-5DCD-41C4-B14A-4DEBD35D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D73736-C7E3-4E4A-A09D-846D663E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830EFD-6D69-47DB-A7D3-FFEAA9DA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5EC032-3AD1-4C0C-8AAB-D0E2349B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AB376B-6697-4108-B17F-77B0B646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537CB8-5501-4C0C-90F6-3093E209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AB49-55B8-4E50-A413-E2985898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58FADC-E1B7-4AA7-8208-0D05655E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D1752C-EDE7-4BA4-B549-234704E1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6AFB5D-39B3-439A-8F62-C29D562E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179B70-D630-43C7-9FCF-CCBFC68E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D2BC5B-0243-4860-8708-C923EA9E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E00150-98D6-4966-8E16-C8EBF233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7FB444-0948-466F-A548-792EC522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C0E1FA-4DC7-4DF9-AE2B-804D1B4F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4C9B5A-6A9C-46CB-B98A-C4D6BDC7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63AB-A142-4A53-AF59-253B78DF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8A47-2774-40BE-A598-A93EA93E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B5126-2589-4A8A-80D1-AA86F6BC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D2435-D6A4-4482-8CE8-2172DBF8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FC91B-E5C3-4EEC-B117-A38289C5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D7CE8-814E-46D1-BDBB-0AC3D738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D89A7-F1AC-4B52-979B-72D3A8A1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453F-0D72-4930-893D-5BA4CF65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BF46B-D0F3-4FCA-A131-3F859DE8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A4AEB-E1C3-4B9B-9A26-B4BD8DC3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72FCA-34F1-40C1-9E55-CF231913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4BC53-B507-4265-AC7C-E22CD6FA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8BA97-692C-497A-B6FF-77A212E2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AA39F-A74D-4CA4-B241-A92663C9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B302C-F291-4189-A397-01167AC4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EC658-DAC5-47F0-9B39-A4716C63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63CCD-2411-480B-A495-ACE83B16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D3078-0508-4531-9289-10C2D96E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450-4A8A-464F-B565-C0F85EEC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733B7-22E8-4498-AA94-3AE01515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4B997-B344-42B3-8FD3-13083D1F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3B2BD-9E7F-4012-97A9-7D34943C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19B14-9053-4914-807F-5B96DA7B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8BA61-FC60-4710-900B-9CA4BDDB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2D1EB-DC26-441A-91CC-64A4FF72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D7A5E-F576-425C-B716-B7C415B6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658BB-510B-4A3F-AF16-AD1E5EAA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A3E64-6D40-4E1D-AB48-9E16CD42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8F490-A430-4B6C-8DD5-6935801E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5112-3F4B-45C4-9F8C-BF81ECF5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A3A9A-DD10-4487-B6E2-A1529CF7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6CDD5-854B-4E4E-9493-DE68379F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15B81-A1DC-4E54-A493-6E9DE2E6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CED18-0DF1-484E-B036-E8C93336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9FFA0-BADC-4AB8-BB78-FFA30AD8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4DE20-8128-4B58-B1B3-D9AE6DF7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1A449-8782-487F-839A-B5A8ACC6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89627-A3DD-4855-995A-F8279983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1A322-123C-404C-8EB3-6D3A3B73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2DE51-DDA1-46AF-8BD6-23D72F3E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9E67-25E7-4E73-8587-B1CC8E4A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2F6D3-F906-4872-80F5-C689CD06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94A54-AC7C-4931-B5F9-D27B606D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8F26A-D44E-477D-A394-2893D7A1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70719-D578-4430-BDEC-64D16888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48C7B-C643-4112-BAE0-E69E2103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04104-4553-402A-B438-301ECEE6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06720-BB7C-42B3-B0FA-DDB5C35B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47641-4946-4E2A-9837-5C4877C8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444D3-63E8-4907-A79D-C58B404E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A5929-8755-46A4-8C0F-1F801419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97B-40B9-4B59-B573-CF297EB2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E4931-61C7-43DA-9849-F44C1729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92487-FE71-46B9-B2D7-1DA4054A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61DE6-0A76-491D-8AF5-9CE27CE9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C92C81-E1CF-4E2A-B0D6-8BF028EE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6226EF-D737-40EB-B14F-B41AEC05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35BF1A-1009-4306-BDC3-1718AEBF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B16A1F-F713-4E54-9307-E02EC993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F69648-8CFC-4195-837E-9C8AE455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F22C31-DF34-4E48-8A80-16A8800E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E75991-6E5C-433A-956B-397B0728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22BF-B865-4D04-90C9-D4E0F046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EAC467-2D3F-435E-A12A-14DC35E8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A2CDEC-E227-447F-AE51-3CF946C5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3D52B7-A0FD-4891-AC57-69F0A767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5B748B-4792-4E9F-BFF8-0058A0D4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896EB4-602F-4543-8166-83319F17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9BC48-A4C6-49A8-810F-F3FD8A82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2D9D4-F0B8-4144-B6A5-3B43FD0F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4C733-3120-459D-BDF3-66A30487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77515-7A9F-4413-9CA3-E73A59B0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4F5CB-47BB-46BF-8D12-420FEFC8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E6D8-D904-4D09-81DA-AD062F03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8ED12-8586-4A13-BF0B-7CD37E70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D6304-1350-46E0-8DA7-CA8C76A6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8DEE7-F593-4D2B-BB39-369D7C15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1544E-3B57-4A43-B57F-6799D812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2040E-59AA-4A61-8B1C-AD41D129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479B3-510D-4CE1-8207-CADB2574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6CBC5-310F-400B-AFD3-1F7F55D2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E9F4A-A3A2-4589-ACDB-99082359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E98A8-FA90-4525-B982-DD1D8E6D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A0C32-0A47-4C5D-A6AC-A3DCEE6F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5631-9C32-4CF3-AB27-D805F6BE7F8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9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0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0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1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9342-495F-4121-B67B-3AE1AE45A7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65DF-8939-4AE2-ADB9-DC5432EE35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C867-D360-4F6C-8A40-9738595E5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38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4472-3DA9-4B53-B7DD-F54329BD8F3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82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84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AF13-2862-4167-B563-36068F4DFB9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5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19D5-8B87-46CA-96A4-91D71F3C46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70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dt" idx="46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ftr" idx="4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60B8-12DB-4096-B1E3-91FFB9E7D2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1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E1DE-932C-4ADC-BC67-361CE9E0AC9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dt" idx="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7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AC1E-540B-428E-A6D6-F0C95592B19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5F34-9A6B-449D-822B-A0B78A2C8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4C84-2640-4A78-808D-53573006A78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5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8AD5-6BEE-4007-9C3B-51101AC5FE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9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AFA9-AB00-4725-B671-847E78D4CA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4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E619-DFAB-48EF-8A44-DF14C6E7B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9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8FF2-DEFD-4460-AF46-8E0449B58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6655-E3C5-4DE1-BD00-3C520B2E52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4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8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EF86-08C8-4B6E-A20C-62EB3897B7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3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4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4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4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5722-2BE8-48DD-AF67-E9DD3F2DE2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9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hyperlink" Target="http://www.flickr.com/photos/smb_flickr/953924495/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1066680" y="5335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0" y="4419720"/>
            <a:ext cx="64008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200" spc="-1" strike="noStrike">
                <a:solidFill>
                  <a:srgbClr val="ffcc00"/>
                </a:solidFill>
                <a:latin typeface="French Script MT"/>
              </a:rPr>
              <a:t>Spain</a:t>
            </a:r>
            <a:endParaRPr b="0" lang="en-US" sz="14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ostumes of Spain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5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5257800" cy="4495680"/>
          </a:xfrm>
          <a:prstGeom prst="rect">
            <a:avLst/>
          </a:prstGeom>
          <a:ln w="0">
            <a:noFill/>
          </a:ln>
        </p:spPr>
      </p:pic>
      <p:pic>
        <p:nvPicPr>
          <p:cNvPr id="1226" name="" descr=""/>
          <p:cNvPicPr/>
          <p:nvPr/>
        </p:nvPicPr>
        <p:blipFill>
          <a:blip r:embed="rId2"/>
          <a:stretch/>
        </p:blipFill>
        <p:spPr>
          <a:xfrm>
            <a:off x="5343480" y="2133720"/>
            <a:ext cx="3800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diós amig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1"/>
          <a:stretch/>
        </p:blipFill>
        <p:spPr>
          <a:xfrm>
            <a:off x="3505320" y="2514600"/>
            <a:ext cx="5638680" cy="4343400"/>
          </a:xfrm>
          <a:prstGeom prst="rect">
            <a:avLst/>
          </a:prstGeom>
          <a:ln w="0">
            <a:noFill/>
          </a:ln>
        </p:spPr>
      </p:pic>
      <p:sp>
        <p:nvSpPr>
          <p:cNvPr id="1230" name="SMARTPenAnnotation0"/>
          <p:cNvSpPr/>
          <p:nvPr/>
        </p:nvSpPr>
        <p:spPr>
          <a:xfrm>
            <a:off x="6278400" y="3814920"/>
            <a:ext cx="17640" cy="52200"/>
          </a:xfrm>
          <a:custGeom>
            <a:avLst/>
            <a:gdLst/>
            <a:ahLst/>
            <a:rect l="l" t="t" r="r" b="b"/>
            <a:pathLst>
              <a:path w="11" h="33">
                <a:moveTo>
                  <a:pt x="10" y="22"/>
                </a:moveTo>
                <a:lnTo>
                  <a:pt x="5" y="27"/>
                </a:lnTo>
                <a:lnTo>
                  <a:pt x="5" y="27"/>
                </a:lnTo>
                <a:lnTo>
                  <a:pt x="5" y="29"/>
                </a:lnTo>
                <a:lnTo>
                  <a:pt x="5" y="30"/>
                </a:lnTo>
                <a:lnTo>
                  <a:pt x="4" y="31"/>
                </a:lnTo>
                <a:lnTo>
                  <a:pt x="3" y="31"/>
                </a:lnTo>
                <a:lnTo>
                  <a:pt x="0" y="32"/>
                </a:lnTo>
                <a:lnTo>
                  <a:pt x="0" y="32"/>
                </a:lnTo>
                <a:lnTo>
                  <a:pt x="0" y="31"/>
                </a:lnTo>
                <a:lnTo>
                  <a:pt x="0" y="27"/>
                </a:lnTo>
                <a:lnTo>
                  <a:pt x="0" y="27"/>
                </a:lnTo>
                <a:lnTo>
                  <a:pt x="1" y="27"/>
                </a:lnTo>
                <a:lnTo>
                  <a:pt x="2" y="27"/>
                </a:lnTo>
                <a:lnTo>
                  <a:pt x="3" y="26"/>
                </a:lnTo>
                <a:lnTo>
                  <a:pt x="4" y="25"/>
                </a:lnTo>
                <a:lnTo>
                  <a:pt x="5" y="22"/>
                </a:lnTo>
                <a:lnTo>
                  <a:pt x="5" y="22"/>
                </a:lnTo>
                <a:lnTo>
                  <a:pt x="5" y="20"/>
                </a:lnTo>
                <a:lnTo>
                  <a:pt x="5" y="16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1" name="SMARTPenAnnotation1"/>
          <p:cNvSpPr/>
          <p:nvPr/>
        </p:nvSpPr>
        <p:spPr>
          <a:xfrm>
            <a:off x="6397560" y="3849840"/>
            <a:ext cx="11160" cy="27000"/>
          </a:xfrm>
          <a:custGeom>
            <a:avLst/>
            <a:gdLst/>
            <a:ahLst/>
            <a:rect l="l" t="t" r="r" b="b"/>
            <a:pathLst>
              <a:path w="7" h="17">
                <a:moveTo>
                  <a:pt x="6" y="10"/>
                </a:moveTo>
                <a:lnTo>
                  <a:pt x="6" y="15"/>
                </a:lnTo>
                <a:lnTo>
                  <a:pt x="5" y="15"/>
                </a:lnTo>
                <a:lnTo>
                  <a:pt x="4" y="15"/>
                </a:lnTo>
                <a:lnTo>
                  <a:pt x="0" y="16"/>
                </a:lnTo>
                <a:lnTo>
                  <a:pt x="0" y="15"/>
                </a:lnTo>
                <a:lnTo>
                  <a:pt x="0" y="14"/>
                </a:lnTo>
                <a:lnTo>
                  <a:pt x="0" y="11"/>
                </a:ln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sp-map" descr="Map of Spain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  <p:sp>
        <p:nvSpPr>
          <p:cNvPr id="1186" name=""/>
          <p:cNvSpPr/>
          <p:nvPr/>
        </p:nvSpPr>
        <p:spPr>
          <a:xfrm>
            <a:off x="0" y="4038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40 00 N, 400 W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capital city is Madrid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8" name="sp-map" descr="Map of Spain"/>
          <p:cNvPicPr/>
          <p:nvPr/>
        </p:nvPicPr>
        <p:blipFill>
          <a:blip r:embed="rId1"/>
          <a:stretch/>
        </p:blipFill>
        <p:spPr>
          <a:xfrm>
            <a:off x="0" y="1066680"/>
            <a:ext cx="6400800" cy="579132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608120" y="3367080"/>
            <a:ext cx="1401840" cy="642960"/>
          </a:xfrm>
          <a:custGeom>
            <a:avLst/>
            <a:gdLst/>
            <a:ahLst/>
            <a:rect l="l" t="t" r="r" b="b"/>
            <a:pathLst>
              <a:path w="3895" h="1787">
                <a:moveTo>
                  <a:pt x="4465" y="10889"/>
                </a:moveTo>
                <a:cubicBezTo>
                  <a:pt x="4777" y="10889"/>
                  <a:pt x="5111" y="10881"/>
                  <a:pt x="5407" y="10914"/>
                </a:cubicBezTo>
                <a:cubicBezTo>
                  <a:pt x="5660" y="10942"/>
                  <a:pt x="5928" y="10914"/>
                  <a:pt x="6176" y="10939"/>
                </a:cubicBezTo>
                <a:cubicBezTo>
                  <a:pt x="6368" y="10958"/>
                  <a:pt x="6561" y="10922"/>
                  <a:pt x="6747" y="10964"/>
                </a:cubicBezTo>
                <a:cubicBezTo>
                  <a:pt x="6782" y="10972"/>
                  <a:pt x="6801" y="10981"/>
                  <a:pt x="6846" y="10988"/>
                </a:cubicBezTo>
                <a:cubicBezTo>
                  <a:pt x="6855" y="10991"/>
                  <a:pt x="6935" y="11003"/>
                  <a:pt x="6970" y="11013"/>
                </a:cubicBezTo>
                <a:cubicBezTo>
                  <a:pt x="7023" y="11028"/>
                  <a:pt x="7056" y="11036"/>
                  <a:pt x="7119" y="11038"/>
                </a:cubicBezTo>
                <a:cubicBezTo>
                  <a:pt x="7213" y="11041"/>
                  <a:pt x="7313" y="11053"/>
                  <a:pt x="7392" y="11063"/>
                </a:cubicBezTo>
                <a:cubicBezTo>
                  <a:pt x="7583" y="11087"/>
                  <a:pt x="7794" y="11063"/>
                  <a:pt x="7987" y="11063"/>
                </a:cubicBezTo>
                <a:cubicBezTo>
                  <a:pt x="8026" y="11101"/>
                  <a:pt x="7961" y="11098"/>
                  <a:pt x="8037" y="11112"/>
                </a:cubicBezTo>
                <a:cubicBezTo>
                  <a:pt x="8075" y="11119"/>
                  <a:pt x="8122" y="11112"/>
                  <a:pt x="8161" y="11112"/>
                </a:cubicBezTo>
                <a:cubicBezTo>
                  <a:pt x="8163" y="11113"/>
                  <a:pt x="8193" y="11129"/>
                  <a:pt x="8210" y="11137"/>
                </a:cubicBezTo>
              </a:path>
              <a:path w="3895" h="1787">
                <a:moveTo>
                  <a:pt x="4490" y="9401"/>
                </a:moveTo>
                <a:cubicBezTo>
                  <a:pt x="4527" y="9392"/>
                  <a:pt x="4554" y="9384"/>
                  <a:pt x="4589" y="9376"/>
                </a:cubicBezTo>
                <a:cubicBezTo>
                  <a:pt x="4671" y="9357"/>
                  <a:pt x="4752" y="9354"/>
                  <a:pt x="4837" y="9351"/>
                </a:cubicBezTo>
                <a:cubicBezTo>
                  <a:pt x="5206" y="9340"/>
                  <a:pt x="5595" y="9336"/>
                  <a:pt x="5953" y="9376"/>
                </a:cubicBezTo>
                <a:cubicBezTo>
                  <a:pt x="6165" y="9400"/>
                  <a:pt x="6399" y="9379"/>
                  <a:pt x="6598" y="9401"/>
                </a:cubicBezTo>
                <a:cubicBezTo>
                  <a:pt x="6881" y="9432"/>
                  <a:pt x="7180" y="9401"/>
                  <a:pt x="7466" y="9401"/>
                </a:cubicBezTo>
                <a:cubicBezTo>
                  <a:pt x="7498" y="9422"/>
                  <a:pt x="7469" y="9430"/>
                  <a:pt x="7541" y="9451"/>
                </a:cubicBezTo>
                <a:cubicBezTo>
                  <a:pt x="7598" y="9467"/>
                  <a:pt x="7659" y="9479"/>
                  <a:pt x="7714" y="9500"/>
                </a:cubicBezTo>
                <a:cubicBezTo>
                  <a:pt x="7774" y="9523"/>
                  <a:pt x="7836" y="9553"/>
                  <a:pt x="7888" y="9575"/>
                </a:cubicBezTo>
                <a:cubicBezTo>
                  <a:pt x="7935" y="9595"/>
                  <a:pt x="7937" y="9593"/>
                  <a:pt x="7987" y="9599"/>
                </a:cubicBezTo>
                <a:cubicBezTo>
                  <a:pt x="8050" y="9606"/>
                  <a:pt x="8136" y="9578"/>
                  <a:pt x="8161" y="9575"/>
                </a:cubicBezTo>
                <a:cubicBezTo>
                  <a:pt x="8225" y="9567"/>
                  <a:pt x="8295" y="9575"/>
                  <a:pt x="8359" y="95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589040" y="3463920"/>
            <a:ext cx="1800" cy="358920"/>
          </a:xfrm>
          <a:custGeom>
            <a:avLst/>
            <a:gdLst/>
            <a:ahLst/>
            <a:rect l="l" t="t" r="r" b="b"/>
            <a:pathLst>
              <a:path w="1" h="993">
                <a:moveTo>
                  <a:pt x="4415" y="9624"/>
                </a:moveTo>
                <a:cubicBezTo>
                  <a:pt x="4415" y="9955"/>
                  <a:pt x="4415" y="10285"/>
                  <a:pt x="4415" y="1061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946240" y="3510000"/>
            <a:ext cx="36720" cy="446040"/>
          </a:xfrm>
          <a:custGeom>
            <a:avLst/>
            <a:gdLst/>
            <a:ahLst/>
            <a:rect l="l" t="t" r="r" b="b"/>
            <a:pathLst>
              <a:path w="100" h="1241">
                <a:moveTo>
                  <a:pt x="8285" y="9748"/>
                </a:moveTo>
                <a:cubicBezTo>
                  <a:pt x="8285" y="9951"/>
                  <a:pt x="8321" y="10210"/>
                  <a:pt x="8260" y="10393"/>
                </a:cubicBezTo>
                <a:cubicBezTo>
                  <a:pt x="8251" y="10419"/>
                  <a:pt x="8260" y="10464"/>
                  <a:pt x="8260" y="10492"/>
                </a:cubicBezTo>
                <a:cubicBezTo>
                  <a:pt x="8222" y="10505"/>
                  <a:pt x="8235" y="10522"/>
                  <a:pt x="8235" y="10567"/>
                </a:cubicBezTo>
                <a:cubicBezTo>
                  <a:pt x="8235" y="10623"/>
                  <a:pt x="8225" y="10645"/>
                  <a:pt x="8210" y="10691"/>
                </a:cubicBezTo>
                <a:cubicBezTo>
                  <a:pt x="8190" y="10750"/>
                  <a:pt x="8210" y="10851"/>
                  <a:pt x="8210" y="10914"/>
                </a:cubicBezTo>
                <a:cubicBezTo>
                  <a:pt x="8174" y="10927"/>
                  <a:pt x="8186" y="10944"/>
                  <a:pt x="8186" y="1098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3579840"/>
          </a:xfrm>
          <a:prstGeom prst="rect">
            <a:avLst/>
          </a:prstGeom>
          <a:ln w="0">
            <a:noFill/>
          </a:ln>
        </p:spPr>
      </p:pic>
      <p:sp>
        <p:nvSpPr>
          <p:cNvPr id="1193" name=""/>
          <p:cNvSpPr/>
          <p:nvPr/>
        </p:nvSpPr>
        <p:spPr>
          <a:xfrm>
            <a:off x="-92160" y="3549600"/>
            <a:ext cx="588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0" y="35812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re are  40,525,002 people In Spain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0" y="5334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Out of the total population of  Spain  98.7% of people  can read and Write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96" name="" descr=""/>
          <p:cNvPicPr/>
          <p:nvPr/>
        </p:nvPicPr>
        <p:blipFill>
          <a:blip r:embed="rId2"/>
          <a:stretch/>
        </p:blipFill>
        <p:spPr>
          <a:xfrm>
            <a:off x="4952880" y="3619440"/>
            <a:ext cx="2286000" cy="3238560"/>
          </a:xfrm>
          <a:prstGeom prst="rect">
            <a:avLst/>
          </a:prstGeom>
          <a:ln w="0">
            <a:noFill/>
          </a:ln>
        </p:spPr>
      </p:pic>
      <p:sp>
        <p:nvSpPr>
          <p:cNvPr id="1197" name=""/>
          <p:cNvSpPr/>
          <p:nvPr/>
        </p:nvSpPr>
        <p:spPr>
          <a:xfrm>
            <a:off x="4876920" y="76212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 type of government that Spain has is Parliamentary monarchy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3"/>
          <a:stretch/>
        </p:blipFill>
        <p:spPr>
          <a:xfrm>
            <a:off x="6419880" y="2209680"/>
            <a:ext cx="27241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errain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in’s land is flat and have small hills and Pyrenees in the north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2"/>
          <a:stretch/>
        </p:blipFill>
        <p:spPr>
          <a:xfrm>
            <a:off x="0" y="3657600"/>
            <a:ext cx="5715000" cy="3200400"/>
          </a:xfrm>
          <a:prstGeom prst="rect">
            <a:avLst/>
          </a:prstGeom>
          <a:ln w="0">
            <a:noFill/>
          </a:ln>
        </p:spPr>
      </p:pic>
      <p:pic>
        <p:nvPicPr>
          <p:cNvPr id="1202" name="" descr=""/>
          <p:cNvPicPr/>
          <p:nvPr/>
        </p:nvPicPr>
        <p:blipFill>
          <a:blip r:embed="rId3"/>
          <a:stretch/>
        </p:blipFill>
        <p:spPr>
          <a:xfrm>
            <a:off x="5410080" y="2514600"/>
            <a:ext cx="3733920" cy="2962440"/>
          </a:xfrm>
          <a:prstGeom prst="rect">
            <a:avLst/>
          </a:prstGeom>
          <a:ln w="0">
            <a:noFill/>
          </a:ln>
        </p:spPr>
      </p:pic>
      <p:sp>
        <p:nvSpPr>
          <p:cNvPr id="1203" name=""/>
          <p:cNvSpPr/>
          <p:nvPr/>
        </p:nvSpPr>
        <p:spPr>
          <a:xfrm>
            <a:off x="4648320" y="297180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mat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t summers in the main land. Mostly cloudy along the coast. Winters in the main land are col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621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2600" y="3886200"/>
            <a:ext cx="93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e Natural hazards in Spain is that there may be no rain at times.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08" name="" descr=""/>
          <p:cNvPicPr/>
          <p:nvPr/>
        </p:nvPicPr>
        <p:blipFill>
          <a:blip r:embed="rId1"/>
          <a:stretch/>
        </p:blipFill>
        <p:spPr>
          <a:xfrm>
            <a:off x="6172200" y="4626000"/>
            <a:ext cx="781200" cy="584280"/>
          </a:xfrm>
          <a:prstGeom prst="rect">
            <a:avLst/>
          </a:prstGeom>
          <a:ln w="0">
            <a:noFill/>
          </a:ln>
        </p:spPr>
      </p:pic>
      <p:pic>
        <p:nvPicPr>
          <p:cNvPr id="1209" name="" descr=""/>
          <p:cNvPicPr/>
          <p:nvPr/>
        </p:nvPicPr>
        <p:blipFill>
          <a:blip r:embed="rId2"/>
          <a:stretch/>
        </p:blipFill>
        <p:spPr>
          <a:xfrm>
            <a:off x="2190600" y="1647720"/>
            <a:ext cx="4743720" cy="3548160"/>
          </a:xfrm>
          <a:prstGeom prst="rect">
            <a:avLst/>
          </a:prstGeom>
          <a:ln w="0">
            <a:noFill/>
          </a:ln>
        </p:spPr>
      </p:pic>
      <p:pic>
        <p:nvPicPr>
          <p:cNvPr id="1210" name="" descr=""/>
          <p:cNvPicPr/>
          <p:nvPr/>
        </p:nvPicPr>
        <p:blipFill>
          <a:blip r:embed="rId3"/>
          <a:stretch/>
        </p:blipFill>
        <p:spPr>
          <a:xfrm>
            <a:off x="2190600" y="1647720"/>
            <a:ext cx="4762800" cy="3562560"/>
          </a:xfrm>
          <a:prstGeom prst="rect">
            <a:avLst/>
          </a:prstGeom>
          <a:ln w="0">
            <a:noFill/>
          </a:ln>
        </p:spPr>
      </p:pic>
      <p:pic>
        <p:nvPicPr>
          <p:cNvPr id="1211" name="" descr="Val d'Aran Salardu depuis Unha by BB33FR."/>
          <p:cNvPicPr/>
          <p:nvPr/>
        </p:nvPicPr>
        <p:blipFill>
          <a:blip r:embed="rId4"/>
          <a:stretch/>
        </p:blipFill>
        <p:spPr>
          <a:xfrm>
            <a:off x="4419720" y="1371600"/>
            <a:ext cx="1728720" cy="230508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/>
          <p:cNvPicPr/>
          <p:nvPr/>
        </p:nvPicPr>
        <p:blipFill>
          <a:blip r:embed="rId5"/>
          <a:stretch/>
        </p:blipFill>
        <p:spPr>
          <a:xfrm>
            <a:off x="2190600" y="1833480"/>
            <a:ext cx="4762800" cy="3191040"/>
          </a:xfrm>
          <a:prstGeom prst="rect">
            <a:avLst/>
          </a:prstGeom>
          <a:ln w="0">
            <a:noFill/>
          </a:ln>
        </p:spPr>
      </p:pic>
      <p:pic>
        <p:nvPicPr>
          <p:cNvPr id="1213" name="" descr=""/>
          <p:cNvPicPr/>
          <p:nvPr/>
        </p:nvPicPr>
        <p:blipFill>
          <a:blip r:embed="rId6"/>
          <a:stretch/>
        </p:blipFill>
        <p:spPr>
          <a:xfrm>
            <a:off x="2190600" y="1833480"/>
            <a:ext cx="4762800" cy="319104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7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1215" name="" descr=""/>
          <p:cNvPicPr/>
          <p:nvPr/>
        </p:nvPicPr>
        <p:blipFill>
          <a:blip r:embed="rId8"/>
          <a:stretch/>
        </p:blipFill>
        <p:spPr>
          <a:xfrm>
            <a:off x="3429000" y="21337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Santa Cristina Beach / Platja de Santa Cristina (I) by . SantiMB .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64160" y="0"/>
            <a:ext cx="2679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ighboring Countri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outhwestern Europe; bordering Bay of Biscay (South end) , southwest of France, Mediterranean sea, and East side of Portugal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9" name="" descr=""/>
          <p:cNvPicPr/>
          <p:nvPr/>
        </p:nvPicPr>
        <p:blipFill>
          <a:blip r:embed="rId1"/>
          <a:stretch/>
        </p:blipFill>
        <p:spPr>
          <a:xfrm>
            <a:off x="3505320" y="3124080"/>
            <a:ext cx="3809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ney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, May 25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Canadian Dollars = 15.96406 E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Euro (EUR) = 39.15045 Canadian Dollar (CA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36:29Z</dcterms:created>
  <dc:creator>ICt Department</dc:creator>
  <dc:description/>
  <dc:language>en-US</dc:language>
  <cp:lastModifiedBy>ICt Department</cp:lastModifiedBy>
  <dcterms:modified xsi:type="dcterms:W3CDTF">2009-05-26T16:10:57Z</dcterms:modified>
  <cp:revision>5</cp:revision>
  <dc:subject/>
  <dc:title>Slide 1</dc:title>
</cp:coreProperties>
</file>