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2.png" ContentType="image/pn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391D-2DAC-4280-A08A-0B8BCD03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A9AD-3192-4E74-BC18-8F7DE81E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B07CB-9ADC-47F5-A2FD-E99B7611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BEA90-B130-40A3-8155-07A6373E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3E7C5-6092-4DDB-8AD6-9C38160C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9DE51-2946-4774-B4C1-0616B708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2D377-56B2-415E-BACA-0F0BABC2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66EF8-6C5B-46AC-AD71-3ECFB6DD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418E5-1EDC-48ED-9657-68A59E1E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E4D8E-980D-4171-B220-CF80AFC87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24A16-7F7D-4D3D-9FA1-216FD627C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58415B-BC0C-4D67-99EF-B9DB934B4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F938-75F1-402A-BCBF-7D43C9D23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BCBFB6-649A-413C-A2C7-3B861CA1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A80037-D8A7-4042-B8ED-7F353F04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E3DEF8-52CF-4491-A8CA-5A73E5A9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79D8F1-BC2B-4A3A-BCF0-1241A2A9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BA93C5-C8C9-4132-B250-CB3DE030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291E72-C7D9-43A3-B5AD-85C22840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EA2703-20FD-4D0F-AE54-2A96FF69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CDF911-659A-4A3F-9780-809A6E38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2D1177-EEB0-45A5-8DCA-5B9AAA01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FB8F98-7571-49F6-ACEF-EF436EAF7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37C7-B4F7-4F61-AF74-F2C6C7A4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8FB63E-9A9C-48CB-B031-9B28FA3E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FA525-60B1-4729-B054-059FEE22D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7069C-6034-480B-A093-D8881970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BEC47-5426-4F60-8F02-70889165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26D9A-6DD8-4084-B1E4-30D002D8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D82E5-9F11-47BA-B2D3-B4122E2E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81795-507F-4533-9450-7627ACA7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7C23A-A11C-49DC-9A70-DB19980B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58A1C-59FA-4BC3-A49D-4DE05EE7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0E1B3-DA08-4FEB-81E0-1271DDCF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1ABC-3F7B-401F-80C6-E9119BD6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CCE7F-9009-4535-97F3-A6CCE1B6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8FC7E-DEB2-4AB5-B676-36C8D452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66A69-DB65-4DD5-9439-F249C3326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39FB5B-F15B-411C-AA53-2C310F7DE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8A8EA-A02B-4834-9C25-C666F866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A78CB-768B-4061-A54A-BE4E5E39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FD395F-3976-40A5-BF58-A88C13F0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788CE-F744-45AD-862F-1655525F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0E1D4-20BF-485C-ADDE-120C46CC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7983C3-DC5F-4DDA-B151-8EFD5E26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BA67-9E8A-4826-9773-469FADF1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F1C060-D644-4749-A120-AB667B98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14174-3715-469D-AD4E-49E04CC9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8FEC2D-6C7A-46F4-A12A-5663EA41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1BF7C-E12C-4235-AD3D-A95A90018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2FAF98-ED14-410D-8BB9-3A8538F5B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7AF420-80E5-47BE-8238-8710D57B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65A444-FCE7-4A91-A47B-D97DF9CD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76601A-406E-4194-A9B0-5DCC0E7C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0F9183-6F7E-4B6E-BDFE-A7B73F25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FFFEFD-0510-4343-92F3-E4F86293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0B4E-BF48-4FA1-B696-5B83919E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475D4D-F853-4AD6-A9A4-B39638A9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BAC907-6910-43B8-B324-ADB3E47F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BA350F-7947-485B-848F-C8C3114F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CAA809-02BA-49CF-8FF8-259FC32A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D194F5-821B-4FAB-88E9-9430EE38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BEB2FF-F1AF-4B1A-BEA1-8DECB627E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87A578-4825-4B03-A34B-26DD78748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4D03AC-CF14-4955-9C10-3FEF02AF8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AE044E-B6E9-499D-BB2A-6AC864AA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678213-6F3A-4A3E-AE86-4D85F533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6004-8F9E-4734-A64F-685E4F17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58B9D1-5D20-4000-9F53-6DFE05A6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F63EB6-0DFF-47C0-9E39-4E7D408B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EE37B6-AFCD-4A3A-85CD-0CD78CF0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C7A95D-5B71-4239-8B73-97A7CB80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0D42DC-BE6B-4AB3-8DDB-46046700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B9ACBB-B7B4-4E2A-9842-BA623AB9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E5972B-EE1F-4C7F-939C-EAAE2E67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182147-10C6-4CB6-9970-629B4DCC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82FA0A-62AE-461D-B114-3870CC65D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941649-C23E-4411-B386-032935AEF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E853-76EB-42F7-96A8-20FB2EC4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C4A23D-714B-4A27-9852-3CF36A82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56ADB4-0D42-4854-86C4-4013F9D1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273011-C741-473B-8E80-A02FA541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05525A-ECE5-466F-9C8D-30285CC0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4A9190-ED34-4430-8D75-5A4EB93D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CD9CEE-08C1-4F24-9B9E-7DD9CBEC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4A86C9-EC4A-45A5-BCFB-43C774E2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1B4DD1-FDC8-4D40-A484-598111DD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5153DD-3CE8-4AB9-A985-B0C13AD6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EE307B-7D0C-4168-A23B-1226FCD90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2CDB-855D-4D6C-B2D2-A9FC59B2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A5D6D8-5049-4F16-BBFF-F41E2764B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D57B00-F1FD-4A9C-8551-17F5384A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400DD1-170F-4C5F-AFA3-CB90DA01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86B059-C2F3-4C69-8017-B5C54AAD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E1CC7E-6D09-48F6-BC17-1CCB498D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E31FC3-FC54-48EA-B062-E28B4211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CE6152-CBCB-4156-8A99-580B8C90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740BF2-535B-41C7-ABFB-6701066E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555C3A-C9C0-4A93-895E-DB9ED9DE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2F89B3-3789-45EA-9735-393BED41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6A22-465E-4C28-B5F8-6A9211E1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D683D1-707A-451C-8421-E2527C8A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057091-381E-46DF-A1F1-00762E1E6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5BAE73-084A-44FF-B8EF-CA6257C5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616F9F2-5CFE-40C6-8BCC-8C762B15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5D4CD78-9E3A-44C5-8C33-39E631D7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453B9A5-3CA1-43E5-9899-D330CCE7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BB95782-20C8-479F-BEDF-BDB20DE9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4322988-7145-451E-84E1-4F473F23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521BA0D-6DBB-47E4-82E2-925AE056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F8E197F-E463-4162-8E21-4C6CFEF9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77E1-A00E-4CF4-BC11-FCEE11D5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4E4E-12F5-4C52-8A8F-1410D04C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A4EABB6-5211-4865-AC00-4DFBBEC8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68CE161-E270-4154-85ED-FBA1E7C9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73D85C2-7AAC-4ADF-8148-23554929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F31A711-5D54-4228-AEFF-F3FA88DC5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695E85B-D14E-48C0-8ACF-033E1958A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ECBFFC-6B69-4DDD-837B-59859567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B0389E-3EA6-4103-BFC4-690C5F46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322664-C6FB-4CD4-A79C-963994A5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851383-6459-4F8A-8516-53940C87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8E0C24-6A83-4E3A-919F-EA054129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39B3-2E20-441A-8221-C4DAFC0C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4F648A-8D85-4DDC-819B-7B0566B0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450545-D43E-4CA8-B05C-A07CEEE3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CFF9E7-33B5-48DB-A14B-9B7545EC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DB36BB-08E0-4209-8E93-63E589E3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B9821F-740D-4540-AD98-7F8C7240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B53751-E9EB-4316-971B-7D294455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CE78C5-4204-43AE-B8AD-409A8E9F7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AD7A2F-59B5-4F70-8333-901BE0DB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1FD0A7-C630-401D-AE99-93E18F20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B00984-5FD8-4641-81A3-43D9180F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C83A-4712-4D46-B8CA-EC293DA8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A1431D-B9F3-45CB-8A13-84FCE27C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D204FD-CAFC-466D-A9DF-764ABFDE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8DB667-AF98-4C75-AC65-EEA604D2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1F5861-2D3C-462D-8899-12866251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AAD8D4-2BFF-4B4B-8321-5B96C9A5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3CC1DE-9CD8-40CF-B361-C88452F5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D87F4A-0B6D-4076-8681-2916C435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34DFFD-3AB4-4EC2-BE0A-CA8DCFD07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CA41D6-E7F3-48A6-81E4-A01C6C8FB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B8F6-005E-4C69-8F62-072C1E2A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D6BF-9A8D-45CE-90D8-9DFC452F4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AB5C1-5F17-4396-8076-35978EB1F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85D03-ED86-4ABD-BFC2-4D9EC13E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2F41D-E361-4616-95C3-0DE5538B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B107B-EA2B-423E-9303-A0BF762D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29B19-2A6D-4AC6-8EE4-C938AFCC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A160-BF21-4FC7-BBBB-B99ED853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190B1-DCCF-442A-ACDB-0B21AC9D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6B7ED-8A84-4440-B201-F02BECD6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32FA4-2F85-4B8A-8369-A45FA911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14ADE-3497-4192-94FB-77191C10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7CA40-B415-4C19-BC09-9773E1B3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9F518-E359-4CC5-AEF4-2F9B9451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CF066-229A-4680-AB9B-AB68655F2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54D43-D048-4F02-A370-E6139AFE1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7E5CA-F4BE-49CE-A92E-18B9B717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77651-D348-45FB-B47F-2F571A88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5DDD-2F02-4B47-98A5-6B49A3AF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45988-9AEB-4ED3-A575-921A47E5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5044E-D0B8-436A-BF6F-53162C32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33D37-52E1-4D1E-85C5-DC425A24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20F63-168F-49A1-92F9-44717D1D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9E08D-AA9D-47C4-A3A3-4D2ABDC1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DDE85-D593-4DE8-81ED-D3242D18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46454-2168-4DA8-89FE-3687A765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DC88B-08A7-4DC7-82C5-6949DC7FD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AA6C7-89CB-4D06-B135-FCE0675A5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43DEF-7A2F-42E0-95C1-C692D0171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67E1-75D1-4215-861E-8465E6B3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EF5BC-7567-4EEC-9935-F5CEFB4E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FD557-A17B-4737-976F-8D981D2A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5EBCF-EEAD-4683-801E-18F00CF9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9746A-23E4-4B8C-B1FA-EED4C23D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5454F-11C5-4470-96EE-ED419EA8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65395-EAA9-4AB2-B898-19CCD95A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1036B-65BC-418F-A08E-FF9C92E7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1D9FB-5ED5-4AE9-BEE8-8B732F47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9E422-2E55-4164-950E-7D0DFD65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FE525-9FB5-40B5-B39A-4FA32CF37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131D-FA2B-4A35-B18D-AAA0BCC5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7FEC0-F71F-4A47-9AE9-931C5B4A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1B557-D91A-4EB6-8ADF-B9BC82046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6351C-D5D3-4148-A4AF-F3062565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45846-8120-4404-B14D-688FD02D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6E12D-EFF9-4256-93CC-867E084F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784BE-76BF-44BF-8E3D-41AB12BA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4D017-C5A3-483B-A50C-CD63D819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9D9B5-1B43-4F38-86DC-BF482FFF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3E750-8438-4606-BF0B-04187DC2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3DB19-ACEC-49EC-870C-E681C0CA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0C1D-9C6F-4A5A-8FE7-BF5F2E1F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BCC94-FEAA-45BC-9FC5-3EC47499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7F575-922A-4A52-BBDC-7041E1C0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1F308-3CAA-4DDF-B325-42EE066E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DB6649-51D3-4D06-9357-ABF64325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BFAA92-C157-4321-8891-76DB8E3D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58AEBA-FD06-4FE7-95B2-D16975D9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6B028F-B6C0-4B66-AC7F-268925C1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3B3B70-C451-4B31-A0A6-36FA6762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69B8F2-7D5C-4831-8212-B2995857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7D0BA2-1CB1-471F-A7DE-54215D0C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266C-3516-494B-B480-9E5129BA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940B85-6EEB-44CC-BFCD-1640E695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246F5D-1FD9-4D34-AA8C-984C8725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DEA9E0-B33E-47AE-9547-AD9E878B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A5CD04-26E9-41F2-8788-7D759E1DA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358778-5DAF-4CC1-92A6-D01FD5ACC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75ACF-F06E-4B25-9865-3273BC03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2145B-A4EA-4311-95DF-7F7719C6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231B0-6E66-4B5D-A79C-D647A208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68D39-B0F1-4AE6-B28A-0CA85E43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B9B2C-B04C-4138-BAC7-C18EED1F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D50F-EBE2-483E-A757-9EC1C85C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AA57B-FE0C-40D1-8B00-7A634362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F9F2C-2912-4A4B-9E42-C616C90A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FBC3B-9455-4F7E-8A77-5E978245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FE38A-E6AB-40E8-8176-7E676E93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B3567-6679-4E14-A011-8DD55EF7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A81A0-E70C-4C1A-B954-CE1681A4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7A5A5-AD59-4C06-AEB8-97A9D3BD5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9D26B-1898-421D-99EE-431614765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03E18-D49A-49A8-92F5-E52DC7C0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A2307-47D3-409C-9921-44214B0B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7B5F-CDAF-4103-B79E-4D4DB5CE675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97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701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703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708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1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B908-AEF7-4DC0-BC48-07816C7D89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FBE2-298F-4BB9-8D40-03810561C1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3E87-6902-48C6-913D-261A9A473C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38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36C9-AC0C-463F-9521-0B3983B37B1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1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82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884" name="PlaceHolder 1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F74E-74DC-4282-BD12-23D02AE3EB2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25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C9FE-50C0-4373-9E11-4434F4F93E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970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dt" idx="46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ftr" idx="47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797E-552F-4A7A-922E-B4044DE80E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1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45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3a"/>
                </a:gs>
                <a:gs pos="50000">
                  <a:srgbClr val="07073f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c67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f6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 type="ftr" idx="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 type="sldNum" idx="5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0BA6-913B-477E-A25F-A156E2E2BF2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 type="dt" idx="5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7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45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3a"/>
                </a:gs>
                <a:gs pos="50000">
                  <a:srgbClr val="07073f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C22F-5034-4D3B-A313-1E435D0657B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55D0-A46F-4963-A9FB-A98021FD9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0F04-588A-4A1B-BD85-1F0E2595925E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5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ADDB-BF8B-425B-AF0E-E7CE913D1CE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39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8A13-0521-45B7-9E88-F753D8928D5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40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67C8-0D76-4409-911E-CCF0C38E2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90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4E49-369A-4A7F-BE2D-62D276EA6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D5B0-A8F6-40C6-A6A2-9B4CBE3CAC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3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4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4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8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8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ftr" idx="2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532C-120C-4FD2-B178-0F44D67F15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36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40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641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42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4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E351-2DA8-428E-B44F-A971F723A7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9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2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hyperlink" Target="http://www.flickr.com/photos/smb_flickr/953924495/" TargetMode="External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7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"/>
          <p:cNvSpPr/>
          <p:nvPr/>
        </p:nvSpPr>
        <p:spPr>
          <a:xfrm>
            <a:off x="1066680" y="5335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0" y="4419720"/>
            <a:ext cx="64008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200" spc="-1" strike="noStrike">
                <a:solidFill>
                  <a:srgbClr val="ffcc00"/>
                </a:solidFill>
                <a:latin typeface="French Script MT"/>
              </a:rPr>
              <a:t>Spain</a:t>
            </a:r>
            <a:endParaRPr b="0" lang="en-US" sz="14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f6f8"/>
                </a:solidFill>
                <a:latin typeface="Tahoma"/>
              </a:rPr>
              <a:t>Costumes of Spain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5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5257800" cy="4495680"/>
          </a:xfrm>
          <a:prstGeom prst="rect">
            <a:avLst/>
          </a:prstGeom>
          <a:ln w="0">
            <a:noFill/>
          </a:ln>
        </p:spPr>
      </p:pic>
      <p:pic>
        <p:nvPicPr>
          <p:cNvPr id="1226" name="" descr=""/>
          <p:cNvPicPr/>
          <p:nvPr/>
        </p:nvPicPr>
        <p:blipFill>
          <a:blip r:embed="rId2"/>
          <a:stretch/>
        </p:blipFill>
        <p:spPr>
          <a:xfrm>
            <a:off x="5343480" y="2133720"/>
            <a:ext cx="3800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diós amig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9" name="" descr=""/>
          <p:cNvPicPr/>
          <p:nvPr/>
        </p:nvPicPr>
        <p:blipFill>
          <a:blip r:embed="rId1"/>
          <a:stretch/>
        </p:blipFill>
        <p:spPr>
          <a:xfrm>
            <a:off x="3505320" y="2514600"/>
            <a:ext cx="5638680" cy="4343400"/>
          </a:xfrm>
          <a:prstGeom prst="rect">
            <a:avLst/>
          </a:prstGeom>
          <a:ln w="0">
            <a:noFill/>
          </a:ln>
        </p:spPr>
      </p:pic>
      <p:sp>
        <p:nvSpPr>
          <p:cNvPr id="1230" name="SMARTPenAnnotation0"/>
          <p:cNvSpPr/>
          <p:nvPr/>
        </p:nvSpPr>
        <p:spPr>
          <a:xfrm>
            <a:off x="6278400" y="3814920"/>
            <a:ext cx="17640" cy="52200"/>
          </a:xfrm>
          <a:custGeom>
            <a:avLst/>
            <a:gdLst/>
            <a:ahLst/>
            <a:rect l="l" t="t" r="r" b="b"/>
            <a:pathLst>
              <a:path w="11" h="33">
                <a:moveTo>
                  <a:pt x="10" y="22"/>
                </a:moveTo>
                <a:lnTo>
                  <a:pt x="5" y="27"/>
                </a:lnTo>
                <a:lnTo>
                  <a:pt x="5" y="27"/>
                </a:lnTo>
                <a:lnTo>
                  <a:pt x="5" y="29"/>
                </a:lnTo>
                <a:lnTo>
                  <a:pt x="5" y="30"/>
                </a:lnTo>
                <a:lnTo>
                  <a:pt x="4" y="31"/>
                </a:lnTo>
                <a:lnTo>
                  <a:pt x="3" y="31"/>
                </a:lnTo>
                <a:lnTo>
                  <a:pt x="0" y="32"/>
                </a:lnTo>
                <a:lnTo>
                  <a:pt x="0" y="32"/>
                </a:lnTo>
                <a:lnTo>
                  <a:pt x="0" y="31"/>
                </a:lnTo>
                <a:lnTo>
                  <a:pt x="0" y="27"/>
                </a:lnTo>
                <a:lnTo>
                  <a:pt x="0" y="27"/>
                </a:lnTo>
                <a:lnTo>
                  <a:pt x="1" y="27"/>
                </a:lnTo>
                <a:lnTo>
                  <a:pt x="2" y="27"/>
                </a:lnTo>
                <a:lnTo>
                  <a:pt x="3" y="26"/>
                </a:lnTo>
                <a:lnTo>
                  <a:pt x="4" y="25"/>
                </a:lnTo>
                <a:lnTo>
                  <a:pt x="5" y="22"/>
                </a:lnTo>
                <a:lnTo>
                  <a:pt x="5" y="22"/>
                </a:lnTo>
                <a:lnTo>
                  <a:pt x="5" y="20"/>
                </a:lnTo>
                <a:lnTo>
                  <a:pt x="5" y="16"/>
                </a:lnTo>
                <a:lnTo>
                  <a:pt x="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1" name="SMARTPenAnnotation1"/>
          <p:cNvSpPr/>
          <p:nvPr/>
        </p:nvSpPr>
        <p:spPr>
          <a:xfrm>
            <a:off x="6397560" y="3849840"/>
            <a:ext cx="11160" cy="27000"/>
          </a:xfrm>
          <a:custGeom>
            <a:avLst/>
            <a:gdLst/>
            <a:ahLst/>
            <a:rect l="l" t="t" r="r" b="b"/>
            <a:pathLst>
              <a:path w="7" h="17">
                <a:moveTo>
                  <a:pt x="6" y="10"/>
                </a:moveTo>
                <a:lnTo>
                  <a:pt x="6" y="15"/>
                </a:lnTo>
                <a:lnTo>
                  <a:pt x="5" y="15"/>
                </a:lnTo>
                <a:lnTo>
                  <a:pt x="4" y="15"/>
                </a:lnTo>
                <a:lnTo>
                  <a:pt x="0" y="16"/>
                </a:lnTo>
                <a:lnTo>
                  <a:pt x="0" y="15"/>
                </a:lnTo>
                <a:lnTo>
                  <a:pt x="0" y="14"/>
                </a:lnTo>
                <a:lnTo>
                  <a:pt x="0" y="11"/>
                </a:lnTo>
                <a:lnTo>
                  <a:pt x="0" y="2"/>
                </a:lnTo>
                <a:lnTo>
                  <a:pt x="1" y="1"/>
                </a:lnTo>
                <a:lnTo>
                  <a:pt x="2" y="1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5" name="sp-map" descr="Map of Spain"/>
          <p:cNvPicPr/>
          <p:nvPr/>
        </p:nvPicPr>
        <p:blipFill>
          <a:blip r:embed="rId1"/>
          <a:stretch/>
        </p:blipFill>
        <p:spPr>
          <a:xfrm>
            <a:off x="1219320" y="0"/>
            <a:ext cx="7924680" cy="6858000"/>
          </a:xfrm>
          <a:prstGeom prst="rect">
            <a:avLst/>
          </a:prstGeom>
          <a:ln w="0">
            <a:noFill/>
          </a:ln>
        </p:spPr>
      </p:pic>
      <p:sp>
        <p:nvSpPr>
          <p:cNvPr id="1186" name=""/>
          <p:cNvSpPr/>
          <p:nvPr/>
        </p:nvSpPr>
        <p:spPr>
          <a:xfrm>
            <a:off x="0" y="4038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40 00 N, 400 W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capital city is Madrid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8" name="sp-map" descr="Map of Spain"/>
          <p:cNvPicPr/>
          <p:nvPr/>
        </p:nvPicPr>
        <p:blipFill>
          <a:blip r:embed="rId1"/>
          <a:stretch/>
        </p:blipFill>
        <p:spPr>
          <a:xfrm>
            <a:off x="0" y="1066680"/>
            <a:ext cx="6400800" cy="579132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1608120" y="3367080"/>
            <a:ext cx="1401840" cy="642960"/>
          </a:xfrm>
          <a:custGeom>
            <a:avLst/>
            <a:gdLst/>
            <a:ahLst/>
            <a:rect l="l" t="t" r="r" b="b"/>
            <a:pathLst>
              <a:path w="3895" h="1787">
                <a:moveTo>
                  <a:pt x="4465" y="10889"/>
                </a:moveTo>
                <a:cubicBezTo>
                  <a:pt x="4777" y="10889"/>
                  <a:pt x="5111" y="10881"/>
                  <a:pt x="5407" y="10914"/>
                </a:cubicBezTo>
                <a:cubicBezTo>
                  <a:pt x="5660" y="10942"/>
                  <a:pt x="5928" y="10914"/>
                  <a:pt x="6176" y="10939"/>
                </a:cubicBezTo>
                <a:cubicBezTo>
                  <a:pt x="6368" y="10958"/>
                  <a:pt x="6561" y="10922"/>
                  <a:pt x="6747" y="10964"/>
                </a:cubicBezTo>
                <a:cubicBezTo>
                  <a:pt x="6782" y="10972"/>
                  <a:pt x="6801" y="10981"/>
                  <a:pt x="6846" y="10988"/>
                </a:cubicBezTo>
                <a:cubicBezTo>
                  <a:pt x="6855" y="10991"/>
                  <a:pt x="6935" y="11003"/>
                  <a:pt x="6970" y="11013"/>
                </a:cubicBezTo>
                <a:cubicBezTo>
                  <a:pt x="7023" y="11028"/>
                  <a:pt x="7056" y="11036"/>
                  <a:pt x="7119" y="11038"/>
                </a:cubicBezTo>
                <a:cubicBezTo>
                  <a:pt x="7213" y="11041"/>
                  <a:pt x="7313" y="11053"/>
                  <a:pt x="7392" y="11063"/>
                </a:cubicBezTo>
                <a:cubicBezTo>
                  <a:pt x="7583" y="11087"/>
                  <a:pt x="7794" y="11063"/>
                  <a:pt x="7987" y="11063"/>
                </a:cubicBezTo>
                <a:cubicBezTo>
                  <a:pt x="8026" y="11101"/>
                  <a:pt x="7961" y="11098"/>
                  <a:pt x="8037" y="11112"/>
                </a:cubicBezTo>
                <a:cubicBezTo>
                  <a:pt x="8075" y="11119"/>
                  <a:pt x="8122" y="11112"/>
                  <a:pt x="8161" y="11112"/>
                </a:cubicBezTo>
                <a:cubicBezTo>
                  <a:pt x="8163" y="11113"/>
                  <a:pt x="8193" y="11129"/>
                  <a:pt x="8210" y="11137"/>
                </a:cubicBezTo>
              </a:path>
              <a:path w="3895" h="1787">
                <a:moveTo>
                  <a:pt x="4490" y="9401"/>
                </a:moveTo>
                <a:cubicBezTo>
                  <a:pt x="4527" y="9392"/>
                  <a:pt x="4554" y="9384"/>
                  <a:pt x="4589" y="9376"/>
                </a:cubicBezTo>
                <a:cubicBezTo>
                  <a:pt x="4671" y="9357"/>
                  <a:pt x="4752" y="9354"/>
                  <a:pt x="4837" y="9351"/>
                </a:cubicBezTo>
                <a:cubicBezTo>
                  <a:pt x="5206" y="9340"/>
                  <a:pt x="5595" y="9336"/>
                  <a:pt x="5953" y="9376"/>
                </a:cubicBezTo>
                <a:cubicBezTo>
                  <a:pt x="6165" y="9400"/>
                  <a:pt x="6399" y="9379"/>
                  <a:pt x="6598" y="9401"/>
                </a:cubicBezTo>
                <a:cubicBezTo>
                  <a:pt x="6881" y="9432"/>
                  <a:pt x="7180" y="9401"/>
                  <a:pt x="7466" y="9401"/>
                </a:cubicBezTo>
                <a:cubicBezTo>
                  <a:pt x="7498" y="9422"/>
                  <a:pt x="7469" y="9430"/>
                  <a:pt x="7541" y="9451"/>
                </a:cubicBezTo>
                <a:cubicBezTo>
                  <a:pt x="7598" y="9467"/>
                  <a:pt x="7659" y="9479"/>
                  <a:pt x="7714" y="9500"/>
                </a:cubicBezTo>
                <a:cubicBezTo>
                  <a:pt x="7774" y="9523"/>
                  <a:pt x="7836" y="9553"/>
                  <a:pt x="7888" y="9575"/>
                </a:cubicBezTo>
                <a:cubicBezTo>
                  <a:pt x="7935" y="9595"/>
                  <a:pt x="7937" y="9593"/>
                  <a:pt x="7987" y="9599"/>
                </a:cubicBezTo>
                <a:cubicBezTo>
                  <a:pt x="8050" y="9606"/>
                  <a:pt x="8136" y="9578"/>
                  <a:pt x="8161" y="9575"/>
                </a:cubicBezTo>
                <a:cubicBezTo>
                  <a:pt x="8225" y="9567"/>
                  <a:pt x="8295" y="9575"/>
                  <a:pt x="8359" y="95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1589040" y="3463920"/>
            <a:ext cx="1800" cy="358920"/>
          </a:xfrm>
          <a:custGeom>
            <a:avLst/>
            <a:gdLst/>
            <a:ahLst/>
            <a:rect l="l" t="t" r="r" b="b"/>
            <a:pathLst>
              <a:path w="1" h="993">
                <a:moveTo>
                  <a:pt x="4415" y="9624"/>
                </a:moveTo>
                <a:cubicBezTo>
                  <a:pt x="4415" y="9955"/>
                  <a:pt x="4415" y="10285"/>
                  <a:pt x="4415" y="1061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2946240" y="3510000"/>
            <a:ext cx="36720" cy="446040"/>
          </a:xfrm>
          <a:custGeom>
            <a:avLst/>
            <a:gdLst/>
            <a:ahLst/>
            <a:rect l="l" t="t" r="r" b="b"/>
            <a:pathLst>
              <a:path w="100" h="1241">
                <a:moveTo>
                  <a:pt x="8285" y="9748"/>
                </a:moveTo>
                <a:cubicBezTo>
                  <a:pt x="8285" y="9951"/>
                  <a:pt x="8321" y="10210"/>
                  <a:pt x="8260" y="10393"/>
                </a:cubicBezTo>
                <a:cubicBezTo>
                  <a:pt x="8251" y="10419"/>
                  <a:pt x="8260" y="10464"/>
                  <a:pt x="8260" y="10492"/>
                </a:cubicBezTo>
                <a:cubicBezTo>
                  <a:pt x="8222" y="10505"/>
                  <a:pt x="8235" y="10522"/>
                  <a:pt x="8235" y="10567"/>
                </a:cubicBezTo>
                <a:cubicBezTo>
                  <a:pt x="8235" y="10623"/>
                  <a:pt x="8225" y="10645"/>
                  <a:pt x="8210" y="10691"/>
                </a:cubicBezTo>
                <a:cubicBezTo>
                  <a:pt x="8190" y="10750"/>
                  <a:pt x="8210" y="10851"/>
                  <a:pt x="8210" y="10914"/>
                </a:cubicBezTo>
                <a:cubicBezTo>
                  <a:pt x="8174" y="10927"/>
                  <a:pt x="8186" y="10944"/>
                  <a:pt x="8186" y="1098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3579840"/>
          </a:xfrm>
          <a:prstGeom prst="rect">
            <a:avLst/>
          </a:prstGeom>
          <a:ln w="0">
            <a:noFill/>
          </a:ln>
        </p:spPr>
      </p:pic>
      <p:sp>
        <p:nvSpPr>
          <p:cNvPr id="1193" name=""/>
          <p:cNvSpPr/>
          <p:nvPr/>
        </p:nvSpPr>
        <p:spPr>
          <a:xfrm>
            <a:off x="-92160" y="3549600"/>
            <a:ext cx="588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0" y="35812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There are  40,525,002 people In Spain.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0" y="53341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Out of the total population of  Spain  98.7% of people  can read and Write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96" name="" descr=""/>
          <p:cNvPicPr/>
          <p:nvPr/>
        </p:nvPicPr>
        <p:blipFill>
          <a:blip r:embed="rId2"/>
          <a:stretch/>
        </p:blipFill>
        <p:spPr>
          <a:xfrm>
            <a:off x="4952880" y="3619440"/>
            <a:ext cx="2286000" cy="3238560"/>
          </a:xfrm>
          <a:prstGeom prst="rect">
            <a:avLst/>
          </a:prstGeom>
          <a:ln w="0">
            <a:noFill/>
          </a:ln>
        </p:spPr>
      </p:pic>
      <p:sp>
        <p:nvSpPr>
          <p:cNvPr id="1197" name=""/>
          <p:cNvSpPr/>
          <p:nvPr/>
        </p:nvSpPr>
        <p:spPr>
          <a:xfrm>
            <a:off x="4876920" y="76212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The type of government that Spain has is Parliamentary monarchy.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3"/>
          <a:stretch/>
        </p:blipFill>
        <p:spPr>
          <a:xfrm>
            <a:off x="6419880" y="2209680"/>
            <a:ext cx="272412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errain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ain’s land is flat and have small hills and Pyrenees in the north.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1" name="" descr=""/>
          <p:cNvPicPr/>
          <p:nvPr/>
        </p:nvPicPr>
        <p:blipFill>
          <a:blip r:embed="rId2"/>
          <a:stretch/>
        </p:blipFill>
        <p:spPr>
          <a:xfrm>
            <a:off x="0" y="3657600"/>
            <a:ext cx="5715000" cy="3200400"/>
          </a:xfrm>
          <a:prstGeom prst="rect">
            <a:avLst/>
          </a:prstGeom>
          <a:ln w="0">
            <a:noFill/>
          </a:ln>
        </p:spPr>
      </p:pic>
      <p:pic>
        <p:nvPicPr>
          <p:cNvPr id="1202" name="" descr=""/>
          <p:cNvPicPr/>
          <p:nvPr/>
        </p:nvPicPr>
        <p:blipFill>
          <a:blip r:embed="rId3"/>
          <a:stretch/>
        </p:blipFill>
        <p:spPr>
          <a:xfrm>
            <a:off x="5410080" y="2514600"/>
            <a:ext cx="3733920" cy="2962440"/>
          </a:xfrm>
          <a:prstGeom prst="rect">
            <a:avLst/>
          </a:prstGeom>
          <a:ln w="0">
            <a:noFill/>
          </a:ln>
        </p:spPr>
      </p:pic>
      <p:sp>
        <p:nvSpPr>
          <p:cNvPr id="1203" name=""/>
          <p:cNvSpPr/>
          <p:nvPr/>
        </p:nvSpPr>
        <p:spPr>
          <a:xfrm>
            <a:off x="4648320" y="297180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mate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t summers in the main land. Mostly cloudy along the coast. Winters in the main land are col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7621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2600" y="3886200"/>
            <a:ext cx="93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e Natural hazards in Spain is that there may be no rain at times.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08" name="" descr=""/>
          <p:cNvPicPr/>
          <p:nvPr/>
        </p:nvPicPr>
        <p:blipFill>
          <a:blip r:embed="rId1"/>
          <a:stretch/>
        </p:blipFill>
        <p:spPr>
          <a:xfrm>
            <a:off x="6172200" y="4626000"/>
            <a:ext cx="781200" cy="584280"/>
          </a:xfrm>
          <a:prstGeom prst="rect">
            <a:avLst/>
          </a:prstGeom>
          <a:ln w="0">
            <a:noFill/>
          </a:ln>
        </p:spPr>
      </p:pic>
      <p:pic>
        <p:nvPicPr>
          <p:cNvPr id="1209" name="" descr=""/>
          <p:cNvPicPr/>
          <p:nvPr/>
        </p:nvPicPr>
        <p:blipFill>
          <a:blip r:embed="rId2"/>
          <a:stretch/>
        </p:blipFill>
        <p:spPr>
          <a:xfrm>
            <a:off x="2190600" y="1647720"/>
            <a:ext cx="4743720" cy="3548160"/>
          </a:xfrm>
          <a:prstGeom prst="rect">
            <a:avLst/>
          </a:prstGeom>
          <a:ln w="0">
            <a:noFill/>
          </a:ln>
        </p:spPr>
      </p:pic>
      <p:pic>
        <p:nvPicPr>
          <p:cNvPr id="1210" name="" descr=""/>
          <p:cNvPicPr/>
          <p:nvPr/>
        </p:nvPicPr>
        <p:blipFill>
          <a:blip r:embed="rId3"/>
          <a:stretch/>
        </p:blipFill>
        <p:spPr>
          <a:xfrm>
            <a:off x="2190600" y="1647720"/>
            <a:ext cx="4762800" cy="3562560"/>
          </a:xfrm>
          <a:prstGeom prst="rect">
            <a:avLst/>
          </a:prstGeom>
          <a:ln w="0">
            <a:noFill/>
          </a:ln>
        </p:spPr>
      </p:pic>
      <p:pic>
        <p:nvPicPr>
          <p:cNvPr id="1211" name="" descr="Val d'Aran Salardu depuis Unha by BB33FR."/>
          <p:cNvPicPr/>
          <p:nvPr/>
        </p:nvPicPr>
        <p:blipFill>
          <a:blip r:embed="rId4"/>
          <a:stretch/>
        </p:blipFill>
        <p:spPr>
          <a:xfrm>
            <a:off x="4419720" y="1371600"/>
            <a:ext cx="1728720" cy="2305080"/>
          </a:xfrm>
          <a:prstGeom prst="rect">
            <a:avLst/>
          </a:prstGeom>
          <a:ln w="0">
            <a:noFill/>
          </a:ln>
        </p:spPr>
      </p:pic>
      <p:pic>
        <p:nvPicPr>
          <p:cNvPr id="1212" name="" descr=""/>
          <p:cNvPicPr/>
          <p:nvPr/>
        </p:nvPicPr>
        <p:blipFill>
          <a:blip r:embed="rId5"/>
          <a:stretch/>
        </p:blipFill>
        <p:spPr>
          <a:xfrm>
            <a:off x="2190600" y="1833480"/>
            <a:ext cx="4762800" cy="3191040"/>
          </a:xfrm>
          <a:prstGeom prst="rect">
            <a:avLst/>
          </a:prstGeom>
          <a:ln w="0">
            <a:noFill/>
          </a:ln>
        </p:spPr>
      </p:pic>
      <p:pic>
        <p:nvPicPr>
          <p:cNvPr id="1213" name="" descr=""/>
          <p:cNvPicPr/>
          <p:nvPr/>
        </p:nvPicPr>
        <p:blipFill>
          <a:blip r:embed="rId6"/>
          <a:stretch/>
        </p:blipFill>
        <p:spPr>
          <a:xfrm>
            <a:off x="2190600" y="1833480"/>
            <a:ext cx="4762800" cy="3191040"/>
          </a:xfrm>
          <a:prstGeom prst="rect">
            <a:avLst/>
          </a:prstGeom>
          <a:ln w="0">
            <a:noFill/>
          </a:ln>
        </p:spPr>
      </p:pic>
      <p:pic>
        <p:nvPicPr>
          <p:cNvPr id="1214" name="" descr=""/>
          <p:cNvPicPr/>
          <p:nvPr/>
        </p:nvPicPr>
        <p:blipFill>
          <a:blip r:embed="rId7"/>
          <a:stretch/>
        </p:blipFill>
        <p:spPr>
          <a:xfrm>
            <a:off x="2190600" y="1643040"/>
            <a:ext cx="4762800" cy="3571920"/>
          </a:xfrm>
          <a:prstGeom prst="rect">
            <a:avLst/>
          </a:prstGeom>
          <a:ln w="0">
            <a:noFill/>
          </a:ln>
        </p:spPr>
      </p:pic>
      <p:pic>
        <p:nvPicPr>
          <p:cNvPr id="1215" name="" descr=""/>
          <p:cNvPicPr/>
          <p:nvPr/>
        </p:nvPicPr>
        <p:blipFill>
          <a:blip r:embed="rId8"/>
          <a:stretch/>
        </p:blipFill>
        <p:spPr>
          <a:xfrm>
            <a:off x="3429000" y="213372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216" name="" descr="Santa Cristina Beach / Platja de Santa Cristina (I) by . SantiMB .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64160" y="0"/>
            <a:ext cx="2679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ighboring Countri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Southwestern Europe; bordering Bay of Biscay (South end) , southwest of France, Mediterranean sea, and East side of Portugal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9" name="" descr=""/>
          <p:cNvPicPr/>
          <p:nvPr/>
        </p:nvPicPr>
        <p:blipFill>
          <a:blip r:embed="rId1"/>
          <a:stretch/>
        </p:blipFill>
        <p:spPr>
          <a:xfrm>
            <a:off x="3505320" y="3124080"/>
            <a:ext cx="3809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ney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day, May 25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Canadian Dollars = 15.96406 E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Euro (EUR) = 39.15045 Canadian Dollar (CA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2" name="" descr=""/>
          <p:cNvPicPr/>
          <p:nvPr/>
        </p:nvPicPr>
        <p:blipFill>
          <a:blip r:embed="rId1"/>
          <a:stretch/>
        </p:blipFill>
        <p:spPr>
          <a:xfrm>
            <a:off x="0" y="4114800"/>
            <a:ext cx="9144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5:36:29Z</dcterms:created>
  <dc:creator>ICt Department</dc:creator>
  <dc:description/>
  <dc:language>en-US</dc:language>
  <cp:lastModifiedBy>ICt Department</cp:lastModifiedBy>
  <dcterms:modified xsi:type="dcterms:W3CDTF">2009-05-26T16:10:57Z</dcterms:modified>
  <cp:revision>5</cp:revision>
  <dc:subject/>
  <dc:title>Slide 1</dc:title>
</cp:coreProperties>
</file>