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35E-688C-4B7D-A6B2-D1AB9727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1389-443D-40E2-AFB6-8DB4CFBD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9D5-7157-4376-80C6-CA3A93C2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EBD-F896-44EE-9953-0D2DB511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4247-49B9-4DDD-A83F-B98623B6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95EF-32C4-43BE-88E4-26CBBF66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A565-9DA9-429E-8A37-C20681CB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0116-73CA-4D1F-AA9C-00230657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F2D2-CC2B-45E7-9FEB-7073D251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4A21-2259-4701-9283-EEA4D381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FB96-5E6F-449A-A515-91FEA4BC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83E1-510F-4D74-B2D0-342CFC0A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9FAF-1242-4E5E-AAEB-6D04C9F6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2E30-8A2B-4C89-A9CF-8B2E2B53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4133-5E9B-45B9-A596-4DCCBC80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E933-0A32-4615-9730-FDB89CD5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EB12-BA50-4721-B11C-E836521F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43F87-D69A-4211-B9F0-5D6EF989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81887-0E7E-4C68-B02E-526D2401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84112-B9CF-4849-B612-DCFFC8E2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9A19A-0D75-4A09-9EF3-74DCEAB8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08F3D-0799-469B-8BF2-8ED032EC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E4F-4957-45ED-9D0B-8D408055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3BFE6-0E0A-46F4-B9A3-02A75103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0CB5F-97AB-414C-B509-20B21B93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BFBDC-809D-4D40-81FA-46E52B9C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60FA-B6A1-42C0-9000-FC533B70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C0393-5927-4FEC-BD80-CA80DA08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B4693-32BA-4E92-9125-6178438B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F242E-275C-4529-8CD7-2B5E52BB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A0F02-1872-40A6-A073-5150AB0B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1B475-526C-4D54-BE51-3C7D59E5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AA57E-154A-48B5-9331-78C41DED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9A8-11E9-45E4-8920-BAC73542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3CDCE-379F-4558-B607-27388560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A9E30-35C0-4735-832B-4846D134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49C43-BE36-48C0-9EEE-5FFC3C46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AEA29-EE31-4130-8DB1-7E001A15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9ECB5-D5B6-4584-BEA0-89772232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9AFE5-0DB9-4858-8BE7-39B5021F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92040-423C-4FEE-B72F-D570525C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D35E2-09CA-47CE-974F-45B4E194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D3985-1BCF-4D15-AA32-6EC56584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E59925-B38F-4ABA-9214-02B45AAC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ADB-45B8-4FB8-AE6B-1FEBCA56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B30E3-73CE-4E29-B178-193EB7F5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4306A-E938-4EF1-BF17-AA903D34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B32E98-E8B9-4982-B033-E6149772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F30E2-50A1-4392-BDD7-9E6DF1C3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A31A5-BA14-437F-90EF-DCB94472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AE4F1-47FE-4405-9D58-65CB1840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333905-7E3E-44A8-918D-32486BB3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25391-21F8-4F32-A0DD-3CE9456C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4B3E6-4AEF-46DA-912D-BA1013D9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945309-45E9-4D2E-AA41-60D67810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BB1-7773-4283-A989-61C18893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65DAE-EEFC-4DF9-8E62-A03C99EA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C7D-6E8A-4D55-9034-36561099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B8AE-19BB-4E7E-AA52-4AB49FC9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EE2-A060-496D-844A-111CCDD6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BDC6-30A1-4BA9-A8D0-BD14192C3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9693-21FB-45A9-B347-A31074F8CE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36BE-AACA-4A73-AD7F-4476672C30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47ED-1BB3-48CF-B9EA-1AA9467F36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AF2B-5D33-4060-8FAA-85E3786526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echateau.com/en/index" TargetMode="External"/><Relationship Id="rId2" Type="http://schemas.openxmlformats.org/officeDocument/2006/relationships/hyperlink" Target="http://www.benmoss.com/" TargetMode="External"/><Relationship Id="rId3" Type="http://schemas.openxmlformats.org/officeDocument/2006/relationships/hyperlink" Target="http://www.cineplex.com/" TargetMode="External"/><Relationship Id="rId4" Type="http://schemas.openxmlformats.org/officeDocument/2006/relationships/hyperlink" Target="http://www.stvitalcentre.com/centre_directory/store_details/index.cfm?storeid=93" TargetMode="External"/><Relationship Id="rId5" Type="http://schemas.openxmlformats.org/officeDocument/2006/relationships/hyperlink" Target="http://www.maccosmetics.com/" TargetMode="External"/><Relationship Id="rId6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Breaking Dawn”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ephanie Mey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lechateau.com/en/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38016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benmos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2000" y="685080"/>
            <a:ext cx="29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ldoshoes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6560" y="10659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cineplex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4080" y="1447200"/>
            <a:ext cx="21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w.ca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60" y="1751760"/>
            <a:ext cx="83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www.stvitalcentre.com/centre_directory/store_details/index.cfm?storeid=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208960"/>
            <a:ext cx="34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www.maccosmetics.com/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0" y="5181480"/>
            <a:ext cx="9144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.Vital Mal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9:00:27Z</dcterms:created>
  <dc:creator>ICt Department</dc:creator>
  <dc:description/>
  <dc:language>en-US</dc:language>
  <cp:lastModifiedBy>ICt Department</cp:lastModifiedBy>
  <dcterms:modified xsi:type="dcterms:W3CDTF">2009-05-15T16:35:52Z</dcterms:modified>
  <cp:revision>4</cp:revision>
  <dc:subject/>
  <dc:title>Twilight Book Series</dc:title>
</cp:coreProperties>
</file>