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EB1-52B0-40EF-B76B-CBE973A8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C1B-8FF3-4DB5-A8AF-E6C621BD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CFF-7D63-4005-AF0E-C4F2ED0F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EF5-FE21-460F-9F6C-DBF32313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28F-5FD1-4963-9542-AA40DA78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516E-D18C-4478-A3DE-EF32380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72E0-66E2-48DD-948E-067413B0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0E72-9053-4B7B-A520-2426F4A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75A1-5310-4B71-89C7-37A001E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02E-51E0-4314-92E7-9C8A023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D249-57B6-40D8-ABC9-6548A68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B40-F416-4E02-8DD4-0BEDB546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A5C-819B-4868-84F0-AF02410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CBE5-E86A-474B-944D-427C686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B1E-9BF6-4DF5-9744-A5252B4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E60-B0C4-4E74-9E78-5E2D0482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0BB7-AD3E-437D-A814-F5E41B72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7775-74B5-4895-BFCC-AFBCCBDB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19F4-008D-4685-8868-B450F1D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60E4-3B40-4A54-BC94-A3EFD44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3B6A-4023-4C2D-A34F-E01EB52E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B5CF3-BF30-47EF-9768-6AD0825C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82B-4AFD-42F3-AC6B-E693A01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DB5B-37CE-4216-A84E-9AFBCABC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D091-CEEA-4AC7-B478-2A4780B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C5C9-8FE3-4756-BC9B-81AE2CCE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E742-0301-4E14-956A-8192F5C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7F14-DF2A-47D0-BD33-F23C99C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EADF-5707-46A0-9F89-021E23ED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A792-F59E-45C3-9FDC-1DE6C326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071D-25D2-4060-994E-4120350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5B2C-99CF-4EFF-A9C7-8FB1D0CB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8C92-747E-493C-8F9B-E414EA2C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EA3-5BEE-4DFD-9151-B2009281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1C48-D658-4015-8D9B-84577C8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F58D-85CF-4F92-BC90-A08574F0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C628-2A1B-40A9-9ADD-54520148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002B-0D83-4EA9-8182-F312B78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4BF3-825A-4B1E-95C6-10B101C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5DE1-4938-40C7-AE11-E95294E7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2D01-ACE7-4719-B59E-13F2CCC5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DEC4-56EC-4827-BBD7-22AC460F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41DDB-3F3A-455E-8C9E-20521780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17E88-7A97-4034-925F-29D8B167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3A7-2ED3-40F9-AE19-0444F630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3D598-FCE0-454C-BADB-6826BAB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9A248-3D3F-4947-8DE5-9F85527E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5AFF4-DB06-4CC6-B417-7E5C546F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9BE45-F093-42FC-833F-4E036C5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14955-A817-40DE-B789-0B8170F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70D34-90EE-466E-87CA-1282C52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80225-C2AC-44E4-BBCC-BC73EAF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96437-D820-439C-981B-AB49BD3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E16DE-A663-4B18-8940-712CFD8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35423-8F48-43B5-811B-58536CAC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91F-55A6-49AB-BDB8-074AA8E5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48850-2B0F-4A95-8887-468CF1D5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4A5-209D-4AFF-835A-0901ABA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FAD-3D97-46C6-8D7F-7AB96EA8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94F-66AD-4466-A68E-F01A1D0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910-A132-45EB-AA06-101F9FC53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033E-B6FB-4F99-A316-49FC724C5E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A7F-C24B-4239-B5DA-B5CB0720AA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10E7-24C9-4665-BF7D-E600DD9AB8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40B7-5B76-45AB-952A-990A9800B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hateau.com/en/index" TargetMode="External"/><Relationship Id="rId2" Type="http://schemas.openxmlformats.org/officeDocument/2006/relationships/hyperlink" Target="http://www.benmoss.com/" TargetMode="External"/><Relationship Id="rId3" Type="http://schemas.openxmlformats.org/officeDocument/2006/relationships/hyperlink" Target="http://www.cineplex.com/" TargetMode="External"/><Relationship Id="rId4" Type="http://schemas.openxmlformats.org/officeDocument/2006/relationships/hyperlink" Target="http://www.stvitalcentre.com/centre_directory/store_details/index.cfm?storeid=93" TargetMode="External"/><Relationship Id="rId5" Type="http://schemas.openxmlformats.org/officeDocument/2006/relationships/hyperlink" Target="http://www.maccosmetics.com/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reaking Dawn”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anie Mey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lechateau.com/en/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01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benmo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000" y="68508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dosho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6560" y="10659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cineple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4080" y="14472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w.c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0" y="1751760"/>
            <a:ext cx="83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www.stvitalcentre.com/centre_directory/store_details/index.cfm?storeid=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0896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maccosmetics.com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5181480"/>
            <a:ext cx="914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Vital M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00:27Z</dcterms:created>
  <dc:creator>ICt Department</dc:creator>
  <dc:description/>
  <dc:language>en-US</dc:language>
  <cp:lastModifiedBy>ICt Department</cp:lastModifiedBy>
  <dcterms:modified xsi:type="dcterms:W3CDTF">2009-05-15T16:35:52Z</dcterms:modified>
  <cp:revision>4</cp:revision>
  <dc:subject/>
  <dc:title>Twilight Book Series</dc:title>
</cp:coreProperties>
</file>