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C3F-B1CC-4DFB-80F8-7DEF3709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30B-7AE3-4569-9A9C-393D25FF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42C-B9D8-43F4-A618-FF3BAF7D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EE7-BCD5-4187-8FE5-E101DA2D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0A61-2F15-440E-B684-A9CBD97FA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4846-E875-449B-AF26-15B3A08E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6C54-014D-45D2-8959-84F3666C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A719-5934-4322-9DA0-41C62FBD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52A8-7EDC-473D-9412-7BDDD9E8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A49B-B17F-4FBE-BD15-48589DDC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20D4-05DE-4873-9FBE-19DE24CE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E90-264B-4AE6-9156-D5094817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81F8-815C-44C4-9D98-24E38272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5378-A657-4E6D-8828-9FD43522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DF81-B413-4620-B0B0-8374863A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7055-CA3A-4AE0-8D70-2D575704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F9AD-CF30-4517-AE6C-8A88904A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1801-CE6A-4C50-997D-CA50C974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69909-628C-4530-8402-A3991DCD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84C5-A780-401E-AA94-FFA1872B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608E-028C-4119-9A2B-F288DC95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7884A-13E5-4B1F-9328-869731AC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37F-A752-4732-BDE2-6E25A93B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3615E-0FDD-4FFE-9B75-542FA208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018FB-931A-4172-A962-3B1524EF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4AB6-0723-4AAA-8D9A-A6BE0FD4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BD6C5-357E-42AB-8EED-516934BE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5F7C-42BF-435C-BC5F-C3E9E1B0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094BC-2A66-4BAA-89D3-800BA749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4EF76-AC96-43D7-9282-9D4BBD66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527E3-CA4D-4E42-B62D-F1411112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34E8E-AE39-497E-BA93-F003A076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258BD-ED69-4E89-AE43-A06F7E70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0B8-806E-4823-9F79-30163A51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78346-E1C4-4B14-BC14-F8F3B287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58F33-F076-4E41-94EE-716B5263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5166-B6DD-4619-BB63-224CD3ED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5D126-3B10-4D8A-9B25-B692A5CA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F57D8-77AB-43DB-9420-36D5A90C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8D839-0EB5-49FC-9203-246CB0F9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0BD56-4E58-4D8C-AAC6-4D9733C5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259C-7431-482D-958D-1CC64815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A8E2F-BC83-4010-A24B-9EFB6882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D5E3C-14A0-47B9-BDAD-74FF4B17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CBC-97D3-4EF1-A055-4332E4A1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EC767-14D0-4AD0-ACE6-64916F9D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CA242F-05DB-43EE-9DB7-7816B204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B7802C-B74A-4FC3-89B8-43624E8A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AF610D-5B8C-4FA8-85D1-C9DA18CC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D0E25-9F22-43F1-A22B-00E47807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CDD29C-209B-459A-9F20-BAC8B9B7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12E86-E5BF-4014-83F6-8294A25D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B3ADF6-C94D-480D-9F93-542B3B18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449A9-33CD-4344-B264-307FF4A3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DB5886-04EB-4588-B412-DF3A21BB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D8F-AA63-4325-A731-A3DD4E9A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5EB15-E7EF-45F6-9C92-9A27752C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B209-E9A3-4DD5-996D-4CCFE9B7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F59-E889-4B33-BCF5-C403C4D5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301-AE81-4B91-AF36-63957686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5ED9-B8B0-4608-A483-4E2351343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CE88-03D0-43FA-B0FD-46B0F0EC7D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0D5E-AF9C-4589-8E21-FC945058AF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8A0E-FCC9-4257-9C06-65AF8D2672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88F0-725B-4232-92EF-6F3830CE01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chateau.com/en/index" TargetMode="External"/><Relationship Id="rId2" Type="http://schemas.openxmlformats.org/officeDocument/2006/relationships/hyperlink" Target="http://www.benmoss.com/" TargetMode="External"/><Relationship Id="rId3" Type="http://schemas.openxmlformats.org/officeDocument/2006/relationships/hyperlink" Target="http://www.cineplex.com/" TargetMode="External"/><Relationship Id="rId4" Type="http://schemas.openxmlformats.org/officeDocument/2006/relationships/hyperlink" Target="http://www.stvitalcentre.com/centre_directory/store_details/index.cfm?storeid=93" TargetMode="External"/><Relationship Id="rId5" Type="http://schemas.openxmlformats.org/officeDocument/2006/relationships/hyperlink" Target="http://www.maccosmetics.com/" TargetMode="External"/><Relationship Id="rId6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Breaking Dawn”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ephanie Mey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lechateau.com/en/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38016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benmos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2000" y="685080"/>
            <a:ext cx="29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ldosho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6560" y="10659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cineplex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4080" y="1447200"/>
            <a:ext cx="21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w.c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60" y="1751760"/>
            <a:ext cx="83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www.stvitalcentre.com/centre_directory/store_details/index.cfm?storeid=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208960"/>
            <a:ext cx="34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www.maccosmetics.com/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5181480"/>
            <a:ext cx="9144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Vital Mal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9:00:27Z</dcterms:created>
  <dc:creator>ICt Department</dc:creator>
  <dc:description/>
  <dc:language>en-US</dc:language>
  <cp:lastModifiedBy>ICt Department</cp:lastModifiedBy>
  <dcterms:modified xsi:type="dcterms:W3CDTF">2009-05-15T16:35:52Z</dcterms:modified>
  <cp:revision>4</cp:revision>
  <dc:subject/>
  <dc:title>Twilight Book Series</dc:title>
</cp:coreProperties>
</file>