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9F8-3DF9-4BDB-9E97-9F35DB60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769-4332-4B4F-88BD-0411B0F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739-97A1-43F1-91E1-05E9ECC2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4F2-816B-41C5-94D7-76A6551A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865C-8FD8-424E-B60D-72D6B1EF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EBDA-6EC1-4A9B-A3AB-4078AA52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843-8027-4532-8502-918C01E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DABD-5CFE-4667-9005-7F70450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8D21-56DE-4D33-BCAD-56013C07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332A-DD9E-454E-B466-CEB6F518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3DC-406F-4432-A172-68F3FE5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72B-7C82-443E-A4CA-E98960C7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677-D2F3-4297-8EE6-C7B9781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2489-1988-4091-A17B-F78E945E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8EC3-7787-4D52-8143-08A69B50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A634-1BF2-4FEF-99A6-33AEF615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ADE9-E541-4B8B-82D9-E1E1E2D2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18AE-85F9-498F-A591-A73D8B7F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64B3-5E38-4407-B9CC-31C083DC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0318-2D7F-44B3-9CA0-19610A2D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E7B7-5EBF-4EF0-A723-0575D56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5892-617A-416D-B766-00C904FB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766-829B-4F1A-ACB0-A7C320BF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5CC7-BA02-455F-B59A-DB54294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8E63-5C2B-4D7B-9E8A-6E918B7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8A86-4AD1-4E3B-ABAB-C7739A36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5053-C395-484B-97AF-EB0A606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7FE6-B1A2-4D62-BFA9-A5F65976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04B1-6624-46F4-BD58-5C0BE559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B333-0AD7-4D8D-9751-BEB03DCB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AC8B-BF3D-4199-8978-21244DD5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36E3-1418-4590-97BE-880BBB16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A954-C5F0-4FF0-8696-DA190CBC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069-38FD-47B3-8141-870FB19D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FAA3-2EAE-41A5-BA0C-86189F23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2E0E-C688-4F51-BF9A-9DFDC30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EF33-B5CB-484B-AA18-377D95E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7B12-4DE5-48E8-B6BA-A07D7DD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5FA1-2FAC-4563-AC1F-8A33CA7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DC2D-349B-40A5-869D-71E656F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A89C-E4FE-4E1C-85AB-B6DA547F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2A36-46B3-4B7F-8F7C-FC886A32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A9CD-3AD2-4817-9E0B-0E22E092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C0501-5010-4BB4-BD04-A5F52DAC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5F3-3075-4892-83DA-6EF4EAB7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9070A-BFCE-4808-BAAD-AFEA709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1F9A3-0D25-47F0-AC0D-3EA18788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20CE0-7849-46D8-B6C7-512C058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CDE26-5D2A-487C-A13A-EA6E2A9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F3D91-8D65-4E0D-BA0F-93DD11D2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7F2EF-6B02-45A0-AA86-32819A1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ACF81-39F3-4C73-B082-6D842AC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D8778-F873-455B-AED8-6983BB4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A423D-E2E9-43C9-B59B-E56ED74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B244C-A8CC-4E7D-B62E-EA750D29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13A-2F13-4864-82FB-755F6933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490AC-583A-4FAE-8F45-F5CA4EFD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B0A-98FE-4F28-8B23-FCD7C115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544-B64C-45FC-8940-A72BEDD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139-EA5D-403C-88DE-88BA22DE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752-983F-4AB6-B7D0-9BD9E76A7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FDF5-297B-4478-A400-19F55E0B81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010C-2323-4E80-BFCD-6791975C0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B54D-0742-4EA4-BABF-70EBD7D84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E057-E7D7-42EF-B0D3-7F57268C32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hateau.com/en/index" TargetMode="External"/><Relationship Id="rId2" Type="http://schemas.openxmlformats.org/officeDocument/2006/relationships/hyperlink" Target="http://www.benmoss.com/" TargetMode="External"/><Relationship Id="rId3" Type="http://schemas.openxmlformats.org/officeDocument/2006/relationships/hyperlink" Target="http://www.cineplex.com/" TargetMode="External"/><Relationship Id="rId4" Type="http://schemas.openxmlformats.org/officeDocument/2006/relationships/hyperlink" Target="http://www.stvitalcentre.com/centre_directory/store_details/index.cfm?storeid=93" TargetMode="External"/><Relationship Id="rId5" Type="http://schemas.openxmlformats.org/officeDocument/2006/relationships/hyperlink" Target="http://www.maccosmetics.com/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reaking Dawn”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anie Mey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lechateau.com/en/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01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benmo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000" y="68508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dosho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6560" y="10659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cineple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4080" y="14472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w.c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0" y="1751760"/>
            <a:ext cx="83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www.stvitalcentre.com/centre_directory/store_details/index.cfm?storeid=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0896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maccosmetics.com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5181480"/>
            <a:ext cx="914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Vital M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00:27Z</dcterms:created>
  <dc:creator>ICt Department</dc:creator>
  <dc:description/>
  <dc:language>en-US</dc:language>
  <cp:lastModifiedBy>ICt Department</cp:lastModifiedBy>
  <dcterms:modified xsi:type="dcterms:W3CDTF">2009-05-15T16:35:52Z</dcterms:modified>
  <cp:revision>4</cp:revision>
  <dc:subject/>
  <dc:title>Twilight Book Series</dc:title>
</cp:coreProperties>
</file>