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332-DEB6-4577-828D-1A71AEDB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F8B-2453-42E4-B654-61D3E2C1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80E-A9D5-46AF-9203-B8259704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31DC-5A7C-482F-9FC0-FB344614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CAAF-30AE-467F-80E4-7B323C42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687C-D639-4B16-9219-559D5998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4231-7418-4EF3-97CC-C8A6E055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C4EC-144A-45B0-8A96-CC8313A2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2B90-92A2-4CD3-8D01-23595B72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DAD1-4BE3-47AC-9ADB-04CF7477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F1D2-1825-4152-A35A-9EF187AD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33F-74CC-4752-90FD-4DD9C3D3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DCE6-7944-407E-87D4-4B2BA814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3826-4729-494B-AF01-763466F0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8F7B-EEB4-405F-B8F4-82AC7F14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4BE4-C001-4F95-B8AF-6FF0A901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82D4-FA66-4093-A0F5-3B06EB40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0A435-DAC1-4E9F-A8C3-AFC74799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7B8C-315D-42D4-B88C-3D6CC29E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88B2-BA90-42F8-BCAD-F9EF13B3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F29FF-ADE8-4DEE-AEA3-99E66590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6562-2DE6-4997-AB90-97E8C378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687-978E-4976-8C49-54067091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B0DB-9E49-43B3-A2B6-50FE9227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FE8E1-942A-49CD-9E24-F38BEFF6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82F86-D7A7-44C3-BB2F-F29E4545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3B022-B9FA-4820-AB94-B1C1610D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3F1B-EEF2-4B23-8BBA-2675E314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ECFF-D08E-46F3-B367-2B37CDCB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FD102-0F30-46BA-BF5F-9504A261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68572-6EFE-4DBF-A32E-3A010B28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627D9-945E-430C-A88C-62E5E6C8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07496-1B47-44BA-B39A-2E1908D2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70A-3EC8-42E9-A14C-E415C971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3E651-E2E1-4475-A63D-49CD98B1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AC18E-EE33-481D-97BC-6A92DBC3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25A23-6F04-41C8-BE52-3EC066CA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17A5F-E4F4-4B86-B264-68450F0A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51465-7F77-4568-9D93-E4450395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78E1E-16D3-47EC-A0B0-1232D1FF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4C496-2F1B-4274-99BB-8578A3D1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C6830-5E38-490A-B516-0325A81E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42B20-D7C9-49E8-AB96-C20A4152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1864F-AD13-46DD-AA6D-C05B3AC8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6B7-D33B-4342-9FB8-7BAEB80A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46D28-844D-4980-B0D6-E6698EC0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CB16D-F6D7-477B-AFDB-4C50F713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E04CED-BA95-432A-A9F5-EDC4A726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BF37A-C368-45B3-8BDB-94728DB9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ABDF9-116B-4CB6-8A43-8FA4F238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8AB782-4B61-4948-8CD2-41405E36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B5E9F-9199-4BDB-AB95-95598D62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E8955-23D2-47D4-9663-1482337E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E4ACDC-12CB-4334-AF85-A4B5A9C2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EE1E7-2322-4C75-8E7F-6C760A49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6E5-B0E0-4298-9C99-BF6EAE7C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C10A5C-13BE-4C2D-BC17-ACAA457B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2A6-E658-4AAB-949E-C2BC3518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966-E9AC-4B86-A9D9-414A8302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B38-0840-461A-8E80-38F1BEC4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844E-88E6-4179-92D8-F502DB5A2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1FC2-E705-4527-AE74-F09A1085FF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C7EE-BB4F-4188-873D-66208D502C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4C45-FF38-4DFD-9853-049545DF76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0CD0-343E-4781-8598-7AD05187B6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chateau.com/en/index" TargetMode="External"/><Relationship Id="rId2" Type="http://schemas.openxmlformats.org/officeDocument/2006/relationships/hyperlink" Target="http://www.benmoss.com/" TargetMode="External"/><Relationship Id="rId3" Type="http://schemas.openxmlformats.org/officeDocument/2006/relationships/hyperlink" Target="http://www.cineplex.com/" TargetMode="External"/><Relationship Id="rId4" Type="http://schemas.openxmlformats.org/officeDocument/2006/relationships/hyperlink" Target="http://www.stvitalcentre.com/centre_directory/store_details/index.cfm?storeid=93" TargetMode="External"/><Relationship Id="rId5" Type="http://schemas.openxmlformats.org/officeDocument/2006/relationships/hyperlink" Target="http://www.maccosmetics.com/" TargetMode="External"/><Relationship Id="rId6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Breaking Dawn”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ephanie Mey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lechateau.com/en/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38016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benmos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2000" y="685080"/>
            <a:ext cx="29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ldosho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6560" y="10659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cineplex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4080" y="1447200"/>
            <a:ext cx="21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w.c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60" y="1751760"/>
            <a:ext cx="83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www.stvitalcentre.com/centre_directory/store_details/index.cfm?storeid=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208960"/>
            <a:ext cx="34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www.maccosmetics.com/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5181480"/>
            <a:ext cx="9144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Vital Mal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9:00:27Z</dcterms:created>
  <dc:creator>ICt Department</dc:creator>
  <dc:description/>
  <dc:language>en-US</dc:language>
  <cp:lastModifiedBy>ICt Department</cp:lastModifiedBy>
  <dcterms:modified xsi:type="dcterms:W3CDTF">2009-05-15T16:35:52Z</dcterms:modified>
  <cp:revision>4</cp:revision>
  <dc:subject/>
  <dc:title>Twilight Book Series</dc:title>
</cp:coreProperties>
</file>