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2,4 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9,8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1,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5,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2,3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0,6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4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9,7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2,3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7,9,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2,4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8,6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4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84560" y="268128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rlow Solid Italic"/>
              </a:rPr>
              <a:t>courtney ciele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rlow Solid Italic"/>
              <a:ea typeface="Harlow Solid Italic"/>
            </a:endParaRPr>
          </a:p>
        </p:txBody>
      </p:sp>
      <p:sp>
        <p:nvSpPr>
          <p:cNvPr id="99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07520" y="5851440"/>
            <a:ext cx="6901560" cy="1008720"/>
            <a:chOff x="1307520" y="5851440"/>
            <a:chExt cx="6901560" cy="1008720"/>
          </a:xfrm>
        </p:grpSpPr>
        <p:sp>
          <p:nvSpPr>
            <p:cNvPr id="102" name=""/>
            <p:cNvSpPr/>
            <p:nvPr/>
          </p:nvSpPr>
          <p:spPr>
            <a:xfrm>
              <a:off x="13075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800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3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2,8,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3,5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7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8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4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2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7,11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8,7,5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6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4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96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4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2,3,6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8,9,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4,5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9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55559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2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386440" y="4699080"/>
            <a:ext cx="5209920" cy="2104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Your on your way to a happy life!</a:t>
            </a: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4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7,9,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2,5,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2,3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6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1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1,2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7,10,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2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25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6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22440" y="1231920"/>
            <a:ext cx="57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3900600"/>
            <a:ext cx="2784600" cy="2957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992840" y="0"/>
            <a:ext cx="41511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7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8,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4,5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5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11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965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5,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2,3,4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6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2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7,5,11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2,4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3,6,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7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61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4185296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2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3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4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1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72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9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80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8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9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6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7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6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4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1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22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30" name="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5,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4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6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7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6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6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3,9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ICt Department</cp:lastModifiedBy>
  <dcterms:modified xsi:type="dcterms:W3CDTF">2009-03-18T14:49:05Z</dcterms:modified>
  <cp:revision>24</cp:revision>
  <dc:subject/>
  <dc:title>No Slide Title</dc:title>
</cp:coreProperties>
</file>